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35.jpeg" ContentType="image/jpe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AE01D-8BB8-4E99-B394-5264E496BD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1400" y="4244760"/>
            <a:ext cx="8862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2F86F-272C-43A6-BC33-D7C3C9B64C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43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1498320"/>
            <a:ext cx="43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1400" y="4244760"/>
            <a:ext cx="43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4244760"/>
            <a:ext cx="43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89E4F-2E3F-4451-95A0-C9F847AE1C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2853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28040" y="1498320"/>
            <a:ext cx="2853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5040" y="1498320"/>
            <a:ext cx="2853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1400" y="4244760"/>
            <a:ext cx="2853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28040" y="4244760"/>
            <a:ext cx="2853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5040" y="4244760"/>
            <a:ext cx="2853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755B6-EC62-421C-9B75-DCD4E97D20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E5E9B-F5EA-473B-BC14-C1A3465968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DBCA1-981D-4C69-8921-68151C002D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00A69-E15A-48CF-B0B6-4B7D134499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4325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160" y="1498320"/>
            <a:ext cx="4325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DB86B-973E-4B75-9C14-E3F407B9BD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F23AB-5CC9-4E3C-BDD3-BFC0E512F8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11FCD-DF61-4DEF-8471-6B9AF0AEDB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43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160" y="1498320"/>
            <a:ext cx="4325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1400" y="4244760"/>
            <a:ext cx="43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B94BC-AF76-458E-89B3-D1F967D972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ACC4B-3822-4762-8755-3A164A4707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4325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160" y="1498320"/>
            <a:ext cx="43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3160" y="4244760"/>
            <a:ext cx="43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096C4-ACE8-4A76-9F2B-54B95CB888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43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1498320"/>
            <a:ext cx="43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1400" y="4244760"/>
            <a:ext cx="8862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72AEC-ADA0-48B1-9DB5-C19959C11E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1400" y="4244760"/>
            <a:ext cx="8862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7DA06-8BA5-4107-98FF-553055F75C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43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160" y="1498320"/>
            <a:ext cx="43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1400" y="4244760"/>
            <a:ext cx="43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3160" y="4244760"/>
            <a:ext cx="43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3730F-8216-41DF-8EB3-BF154F8816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2853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28040" y="1498320"/>
            <a:ext cx="2853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25040" y="1498320"/>
            <a:ext cx="2853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1400" y="4244760"/>
            <a:ext cx="2853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28040" y="4244760"/>
            <a:ext cx="2853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25040" y="4244760"/>
            <a:ext cx="2853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DB142-90B3-4217-964A-795FA52C44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276C1-8041-42C0-A994-D7A000378F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4325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1498320"/>
            <a:ext cx="4325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50072-A733-44BE-B7C9-6B9F195EDC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F990E-2216-4845-A8AD-B8971352A4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ADE23-1CAE-48A4-9855-97F20706E4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43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1498320"/>
            <a:ext cx="4325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1400" y="4244760"/>
            <a:ext cx="43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BD404-4B9E-4071-95CB-EF62D69AF4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4325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1498320"/>
            <a:ext cx="43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4244760"/>
            <a:ext cx="43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A231D-C654-419A-9C95-F6B59162CD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43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1498320"/>
            <a:ext cx="4325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1400" y="4244760"/>
            <a:ext cx="8862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0EEB0-4CC8-4C01-AF6F-6CCEDE17A7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2" marL="1143000" indent="-228600">
              <a:spcBef>
                <a:spcPts val="7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3" marL="1600200" indent="-228600">
              <a:spcBef>
                <a:spcPts val="7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4" marL="2057400" indent="-228600">
              <a:spcBef>
                <a:spcPts val="7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10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DCE3-F36A-484F-814A-00BFCA05555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297720" y="648324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F050-1E24-40EA-B15C-7EE899AEDC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90520" y="2013120"/>
            <a:ext cx="711360" cy="474480"/>
            <a:chOff x="290520" y="2013120"/>
            <a:chExt cx="711360" cy="474480"/>
          </a:xfrm>
        </p:grpSpPr>
        <p:sp>
          <p:nvSpPr>
            <p:cNvPr id="42" name=""/>
            <p:cNvSpPr/>
            <p:nvPr/>
          </p:nvSpPr>
          <p:spPr>
            <a:xfrm>
              <a:off x="290520" y="2013120"/>
              <a:ext cx="43740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73560" y="201312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414360" y="2435400"/>
            <a:ext cx="737640" cy="474480"/>
            <a:chOff x="414360" y="2435400"/>
            <a:chExt cx="737640" cy="474480"/>
          </a:xfrm>
        </p:grpSpPr>
        <p:sp>
          <p:nvSpPr>
            <p:cNvPr id="45" name=""/>
            <p:cNvSpPr/>
            <p:nvPr/>
          </p:nvSpPr>
          <p:spPr>
            <a:xfrm>
              <a:off x="414360" y="2435400"/>
              <a:ext cx="42156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83000" y="2435400"/>
              <a:ext cx="36900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0" y="23623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3269-DAA0-409A-AE64-B1B96B4CF573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2720" y="2224080"/>
            <a:ext cx="31680" cy="10526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6400" y="2681280"/>
            <a:ext cx="8226720" cy="316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136224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High Performance Cluster Computing</a:t>
            </a:r>
            <a:br>
              <a:rPr sz="3600"/>
            </a:b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Architectures and Systems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01360" y="3428640"/>
            <a:ext cx="6604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Book Editor: Rajkumar Buyya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Slides Prepared by: Hai Jin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573360" y="5757840"/>
          <a:ext cx="5097600" cy="5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3360" y="5757840"/>
                    <a:ext cx="50976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iccc" descr=""/>
          <p:cNvPicPr/>
          <p:nvPr/>
        </p:nvPicPr>
        <p:blipFill>
          <a:blip r:embed="rId3"/>
          <a:stretch/>
        </p:blipFill>
        <p:spPr>
          <a:xfrm>
            <a:off x="76320" y="49320"/>
            <a:ext cx="1523880" cy="1474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470760" y="5294160"/>
            <a:ext cx="517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Internet and Cluster Computing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vol1pic_large" descr=""/>
          <p:cNvPicPr/>
          <p:nvPr/>
        </p:nvPicPr>
        <p:blipFill>
          <a:blip r:embed="rId4"/>
          <a:stretch/>
        </p:blipFill>
        <p:spPr>
          <a:xfrm>
            <a:off x="457200" y="3200400"/>
            <a:ext cx="1096920" cy="1447920"/>
          </a:xfrm>
          <a:prstGeom prst="rect">
            <a:avLst/>
          </a:prstGeom>
          <a:ln w="0">
            <a:noFill/>
          </a:ln>
        </p:spPr>
      </p:pic>
      <p:pic>
        <p:nvPicPr>
          <p:cNvPr id="96" name="monash_logo" descr=""/>
          <p:cNvPicPr/>
          <p:nvPr/>
        </p:nvPicPr>
        <p:blipFill>
          <a:blip r:embed="rId5"/>
          <a:stretch/>
        </p:blipFill>
        <p:spPr>
          <a:xfrm>
            <a:off x="1600200" y="5797440"/>
            <a:ext cx="1725480" cy="468360"/>
          </a:xfrm>
          <a:prstGeom prst="rect">
            <a:avLst/>
          </a:prstGeom>
          <a:ln w="0">
            <a:noFill/>
          </a:ln>
        </p:spPr>
      </p:pic>
      <p:pic>
        <p:nvPicPr>
          <p:cNvPr id="97" name="ph_logo" descr=""/>
          <p:cNvPicPr/>
          <p:nvPr/>
        </p:nvPicPr>
        <p:blipFill>
          <a:blip r:embed="rId6"/>
          <a:stretch/>
        </p:blipFill>
        <p:spPr>
          <a:xfrm>
            <a:off x="264960" y="5627520"/>
            <a:ext cx="1143000" cy="64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hysical Placement of Data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Name Resolution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is consists of locating a file or directory given its nam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wo approaches to this problem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entralized name-resolution sche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ributed name-resolution sche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entralized name-resolution schem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 node is responsible for mapping t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failure in the node results in a failure of the whole filesystem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entralized server might become a bottleneck in larger syst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hysical Placement of Data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Name Resolution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istributed name-resolution schem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o different way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system builds its own name space (Sun NF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system knows the filesystems that have been mounted and the node that holds them  - movement probl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re is a unique global structure (domain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ngle name space for all workst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me sever is responsible for one of these domai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increase the performance of this name resolution, the system may keep a cache of which nodes have the most popular files or director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Example of Dividing a Directory Tree into Domai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60520" y="1574640"/>
          <a:ext cx="8454960" cy="518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0520" y="1574640"/>
                    <a:ext cx="8454960" cy="51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hysical Placement of Data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Data Striping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Distribute the data among the disks so that it can be fetched from as many disks as possible in parallel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he first time this idea was used was in building a high-bandwidth “single disk”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nect several disks to a single controller and give the impression that the disk had a higher data transfer bandwid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RAID – Redundant Arrays of Inexpensive Disk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hysical Placement of Data (V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RAID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ree reasons of the high performan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ata from each disk can be fetched at the same time, increasing the disk bandwidt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ll disks can perform the seek operation in parallel, decreasing its tim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re than one request may be handled in parall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 interleav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ne-grained disk array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nterleave data in relatively small units so that all I/O requests access all the disks in the disk arra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Very high data transfer rates for all I/O request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nly one logical I/O request can be serve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aste time positioning for every reques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arse-grained disk array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nterleave data in relatively large units so that all I/O requests need only to access a small number of disks &amp; large requests can access all disk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ultiple small requests to be serviced in paralle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ID needs a fault-tolerance mechanism to allow a disk failure without losing the information kept in the failed dis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AID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RAID Level 0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aracteristics/Advantag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AID 0 implements a striped disk array, the data is broken down into blocks and each block is written to a separate disk driv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/O performance is greatly improved by spreading the I/O load across many channels and driv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est performance is achieved when data is striped across multiple controllers with only one drive per controll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o parity calculation overhead is involve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Very simple desig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asy to impleme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isadvantag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ot a "True" RAID because it is NOT fault-tolera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 failure of just one drive will result in all data in an array being los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hould never be used in mission critical environment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commended Applicatio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Video Production and Editing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mage Editing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re-Press Applications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y application requiring high bandwidth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AID 0: Striped Disk Array without Fault Toleranc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-6843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00" descr=""/>
          <p:cNvPicPr/>
          <p:nvPr/>
        </p:nvPicPr>
        <p:blipFill>
          <a:blip r:embed="rId1"/>
          <a:srcRect l="25811" t="11766" r="27055" b="11147"/>
          <a:stretch/>
        </p:blipFill>
        <p:spPr>
          <a:xfrm>
            <a:off x="1089000" y="1500120"/>
            <a:ext cx="7370640" cy="44434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747080" y="6261120"/>
            <a:ext cx="645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ID Level 0 requires a minimum of 2 drives to imp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AID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RAID Level 1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aracteristics/Advantag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ne Write or two Reads possible per mirrored pai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wice the Read transaction rate of single disks, same Write transaction rate as single disk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00% redundancy of data means no rebuild is necessary in case of a disk failure, just a copy to the replacement disk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ransfer rate per block is equal to that of a single disk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certain circumstances, RAID 1 can sustain multiple simultaneous drive failur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implest RAID storage subsystem desig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isadvantag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ighest disk overhead of all RAID types (100%) - inefficie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ypically the RAID function is done by system software, loading the CPU/Server and possibly degrading throughput at high activity levels. Hardware implementation is strongly recommende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ay not support hot swap of failed disk when implemented in "software"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commended Applicatio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ccounting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ayroll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inancial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y application requiring very high availability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AID 1: Mirroring and Duplexing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-6843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1320" y="5597640"/>
            <a:ext cx="7861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Highest performance, the controller must be able to perform two con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parate Reads per mirrored pair or two duplicate Writes per mirrored pair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ID Level 1 requires a minimum of 2 drives to imp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-6843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01" descr=""/>
          <p:cNvPicPr/>
          <p:nvPr/>
        </p:nvPicPr>
        <p:blipFill>
          <a:blip r:embed="rId1"/>
          <a:srcRect l="2976" t="10677" r="2780" b="12321"/>
          <a:stretch/>
        </p:blipFill>
        <p:spPr>
          <a:xfrm>
            <a:off x="152280" y="2031840"/>
            <a:ext cx="8791560" cy="26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AID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RAID Level 2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haracteristics/Advantag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"On the fly" data error correc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tremely high data transfer rates possi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higher the data transfer rate required, the better the ratio of data disks to ECC dis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latively simple controller design compared to RAID levels 3,4 &amp; 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isadvantag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ery high ratio of ECC disks to data disks with smaller word sizes - ineffici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try level cost very high - requires very high transfer rate requirement to justif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action rate is equal to that of a single disk at best (with spindle synchronizatio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commercial implementations exist / not commercially via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oftware RAID and Parallel Filesyste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558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Chap.19 by: T. Cortes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Introduction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Physical Placement of Data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Caching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Prefetching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Interface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182280" y="2666880"/>
            <a:ext cx="2785320" cy="3431160"/>
            <a:chOff x="6182280" y="2666880"/>
            <a:chExt cx="2785320" cy="3431160"/>
          </a:xfrm>
        </p:grpSpPr>
        <p:pic>
          <p:nvPicPr>
            <p:cNvPr id="101" name="vol1pic_large" descr=""/>
            <p:cNvPicPr/>
            <p:nvPr/>
          </p:nvPicPr>
          <p:blipFill>
            <a:blip r:embed="rId1"/>
            <a:stretch/>
          </p:blipFill>
          <p:spPr>
            <a:xfrm>
              <a:off x="6400800" y="2666880"/>
              <a:ext cx="23670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6182280" y="5790960"/>
              <a:ext cx="278532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Tahoma"/>
                </a:rPr>
                <a:t>http://www.buyya.com/cluster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AID 2: Hamming Code ECC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>
            <a:off x="-6843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55720" y="5619600"/>
            <a:ext cx="7746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ach bit of data word is written to a data disk drive (4 in this example: 0 to 3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ach data word has its Hamming Code ECC word recorded on the ECC disk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n Read, the ECC code verifies correct data or corrects single disk err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-6843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02" descr=""/>
          <p:cNvPicPr/>
          <p:nvPr/>
        </p:nvPicPr>
        <p:blipFill>
          <a:blip r:embed="rId1"/>
          <a:srcRect l="2780" t="7576" r="2780" b="7507"/>
          <a:stretch/>
        </p:blipFill>
        <p:spPr>
          <a:xfrm>
            <a:off x="152280" y="1703520"/>
            <a:ext cx="8791560" cy="36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AID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RAID Level 3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aracteristics/Advant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ery high read data transfer ra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ery high write data transfer ra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k failure has an insignificant impact on throughpu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w ratio of ECC (Parity) disks to data disks means high efficienc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advant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nsaction rate equal to that of a single disk drive at best (if spindles are synchronized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roller design is fairly comple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ery difficult and resource intensive to do as a "software" RAI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ommended Applic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ideo production and live streaming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mage editing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ideo editing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press application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y application requiring high throughput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AID 3: Parallel Transfer with Parity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-6843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12800" y="5334120"/>
            <a:ext cx="7746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data block is subdivided ("striped") and written on the data disk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ripe parity is generated on Writes, recorded on the parity disk and checked on Reads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ID Level 3 requires a minimum of 3 drives to imp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-6843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-684360" y="22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744560" y="2225520"/>
            <a:ext cx="4286160" cy="2408400"/>
            <a:chOff x="1744560" y="2225520"/>
            <a:chExt cx="4286160" cy="2408400"/>
          </a:xfrm>
        </p:grpSpPr>
        <p:sp>
          <p:nvSpPr>
            <p:cNvPr id="157" name=""/>
            <p:cNvSpPr/>
            <p:nvPr/>
          </p:nvSpPr>
          <p:spPr>
            <a:xfrm>
              <a:off x="1744560" y="2225520"/>
              <a:ext cx="4286160" cy="240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44560" y="2225520"/>
              <a:ext cx="4286160" cy="240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12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9" name="03" descr=""/>
          <p:cNvPicPr/>
          <p:nvPr/>
        </p:nvPicPr>
        <p:blipFill>
          <a:blip r:embed="rId1"/>
          <a:srcRect l="2575" t="14268" r="2213" b="9130"/>
          <a:stretch/>
        </p:blipFill>
        <p:spPr>
          <a:xfrm>
            <a:off x="152280" y="2225520"/>
            <a:ext cx="8791560" cy="26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AID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RAID Level 4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haracteristics/Advantag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ery high read data transaction r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w ratio of ECC (Parity) disks to data disks means high efficienc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gh aggregate read transfer r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isadvantag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ite complex controller desig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st write transaction rate and write aggregate transfer r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fficult and inefficient data rebuild in the event of disk fail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lock read transfer rate equal to that of a single dis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AID 4: Independent Data Disks with Shared Parity Disk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-6843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2800" y="5334120"/>
            <a:ext cx="7746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ach entire block is written onto a data disk. Parity for same rank blocks is generated on writes, recorded on the parity disk and checked on Reads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ID Level 4 requires a minimum of 3 drives to imp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-6843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-684360" y="22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744560" y="2225520"/>
            <a:ext cx="4286160" cy="2408400"/>
            <a:chOff x="1744560" y="2225520"/>
            <a:chExt cx="4286160" cy="2408400"/>
          </a:xfrm>
        </p:grpSpPr>
        <p:sp>
          <p:nvSpPr>
            <p:cNvPr id="168" name=""/>
            <p:cNvSpPr/>
            <p:nvPr/>
          </p:nvSpPr>
          <p:spPr>
            <a:xfrm>
              <a:off x="1744560" y="2225520"/>
              <a:ext cx="4286160" cy="240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44560" y="2225520"/>
              <a:ext cx="4286160" cy="240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12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-684360" y="22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04" descr=""/>
          <p:cNvPicPr/>
          <p:nvPr/>
        </p:nvPicPr>
        <p:blipFill>
          <a:blip r:embed="rId1"/>
          <a:srcRect l="2780" t="11231" r="4165" b="10149"/>
          <a:stretch/>
        </p:blipFill>
        <p:spPr>
          <a:xfrm>
            <a:off x="152280" y="1954080"/>
            <a:ext cx="8839440" cy="27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AID (V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RAID Level 5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aracteristics/Advantag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est read data transaction ra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dium write data transaction ra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w ratio of ECC (Parity) disks to data disks means high efficienc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ood aggregate transfer ra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advantag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isk failure has a medium impact on through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st complex controller desig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ifficult to rebuild in the event of a disk failure (as compared to RAID level 1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dividual block data transfer rate same as single disk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commended Applica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le and application server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atabase server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WW, E-mail, and News server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ranet server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st versatile RAID level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AID 5: Independent Data Disks with Distributed Parity Block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-6843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12800" y="5334120"/>
            <a:ext cx="7746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ach entire data block is written on a data disk; parity for blocks in the same rank is generated on Writes, recorded in a distributed location and checked on Reads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ID Level 5 requires a minimum of 3 drives to imp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-6843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-684360" y="22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744560" y="2225520"/>
            <a:ext cx="4286160" cy="2408400"/>
            <a:chOff x="1744560" y="2225520"/>
            <a:chExt cx="4286160" cy="2408400"/>
          </a:xfrm>
        </p:grpSpPr>
        <p:sp>
          <p:nvSpPr>
            <p:cNvPr id="180" name=""/>
            <p:cNvSpPr/>
            <p:nvPr/>
          </p:nvSpPr>
          <p:spPr>
            <a:xfrm>
              <a:off x="1744560" y="2225520"/>
              <a:ext cx="4286160" cy="240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744560" y="2225520"/>
              <a:ext cx="4286160" cy="240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12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-684360" y="22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-6843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05" descr=""/>
          <p:cNvPicPr/>
          <p:nvPr/>
        </p:nvPicPr>
        <p:blipFill>
          <a:blip r:embed="rId1"/>
          <a:srcRect l="2638" t="12063" r="2921" b="10517"/>
          <a:stretch/>
        </p:blipFill>
        <p:spPr>
          <a:xfrm>
            <a:off x="228600" y="1828800"/>
            <a:ext cx="8686800" cy="29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ad-Write-Modify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628640" y="1562040"/>
          <a:ext cx="5886720" cy="529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8640" y="1562040"/>
                    <a:ext cx="5886720" cy="52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generate-Writ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638360" y="1495440"/>
          <a:ext cx="5867280" cy="53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8360" y="1495440"/>
                    <a:ext cx="5867280" cy="53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raphic Representation of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he Five Levels of RAID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52280" y="1494000"/>
          <a:ext cx="8791560" cy="50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94000"/>
                    <a:ext cx="8791560" cy="50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roduction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I/O problem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luster of workstations has the great amount of resourc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se large number of resources were not accessible from all the nodes in the network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Only the process running on the node that had a given resource attached were able to  use i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there was a way to access those remote resources, the steps that had to be done were neither simple nor transparen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se resources have to be accessible from any node (Single System Image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mparison Between RAID Level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52280" y="1495440"/>
          <a:ext cx="8991720" cy="53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95440"/>
                    <a:ext cx="8991720" cy="53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AID (V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RAID Level 6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aracteristics/Advant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 extension of RAID level 5 which allows for additional fault tolerance by using a second independent distributed parity scheme (two-dimensional parity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 is striped on a block level across a set of drives, just like in RAID 5, and a second set of parity is calculated and written across all the driv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ID 6 provides for an extremely high data fault tolerance and can sustain multiple simultaneous drive failur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rfect solution for mission critical applica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advant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ery complex controller desig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roller overhead to compute parity addresses is extremely hig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ery poor write performan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quires N+2 drives to implement because of two-dimensional parity sche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RAID 6: Independent Data Disks with Two Independent Distributed Parity Schem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-6843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-6843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684360" y="22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744560" y="2225520"/>
            <a:ext cx="4286160" cy="2408400"/>
            <a:chOff x="1744560" y="2225520"/>
            <a:chExt cx="4286160" cy="2408400"/>
          </a:xfrm>
        </p:grpSpPr>
        <p:sp>
          <p:nvSpPr>
            <p:cNvPr id="204" name=""/>
            <p:cNvSpPr/>
            <p:nvPr/>
          </p:nvSpPr>
          <p:spPr>
            <a:xfrm>
              <a:off x="1744560" y="2225520"/>
              <a:ext cx="4286160" cy="240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744560" y="2225520"/>
              <a:ext cx="4286160" cy="240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12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-684360" y="22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-6843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-6843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744560" y="2119320"/>
            <a:ext cx="4286160" cy="2620800"/>
            <a:chOff x="1744560" y="2119320"/>
            <a:chExt cx="4286160" cy="2620800"/>
          </a:xfrm>
        </p:grpSpPr>
        <p:sp>
          <p:nvSpPr>
            <p:cNvPr id="210" name=""/>
            <p:cNvSpPr/>
            <p:nvPr/>
          </p:nvSpPr>
          <p:spPr>
            <a:xfrm>
              <a:off x="1744560" y="2119320"/>
              <a:ext cx="4286160" cy="262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44560" y="2119320"/>
              <a:ext cx="4286160" cy="262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142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" name="06" descr=""/>
          <p:cNvPicPr/>
          <p:nvPr/>
        </p:nvPicPr>
        <p:blipFill>
          <a:blip r:embed="rId1"/>
          <a:srcRect l="8189" t="12063" r="8480" b="7158"/>
          <a:stretch/>
        </p:blipFill>
        <p:spPr>
          <a:xfrm>
            <a:off x="228600" y="2133720"/>
            <a:ext cx="876312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AID (V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RAID Level 7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chitectural Featu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 I/O transfers are asynchronous, independently controlled and cached including host interface transf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 reads and write are centrally cached via the high speed x-bu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dicated parity drive can be on any chann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lly implemented process oriented real time operating system resident on embedded array control microprocess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mbedded real time operating system controlled communications chann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pen system uses standard SCSI drives, standard PC buses, motherboards and memory SIM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gh speed internal cache data transfer bus (X-bu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ity generation integrated into cach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ltiple attached drive devices can be declared hot standby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nageability: SNMP agent allows for remote monitoring and manage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AID (IX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RAID Level 7 (cont’d)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aracteristics/Advantag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verall write performance is 25% to 90% better than single spindle performance and 1.5 to 6 times better than other array level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ost interfaces are scalable for connectivity or increased host transfer bandwidt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mall reads in multi user environment have very high cache hit rate resulting in near zero access tim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performance improves with an increase in the number of drives in the arra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ccess times decrease with each increase in the number of actuators in the arra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 extra data transfers required for parity manipula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ID 7 is a registered trademark of Storage Computer Corporation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advantag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ne vendor proprietary solu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tremely high cost per M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ry short warran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t user serviceab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ower supply must be UPS to prevent loss of cache dat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RAID 7: Optimized Asynchrony for High I/O Rates as well as High Data Transfer Rat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-6843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-6843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-684360" y="22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744560" y="2225520"/>
            <a:ext cx="4286160" cy="2408400"/>
            <a:chOff x="1744560" y="2225520"/>
            <a:chExt cx="4286160" cy="2408400"/>
          </a:xfrm>
        </p:grpSpPr>
        <p:sp>
          <p:nvSpPr>
            <p:cNvPr id="222" name=""/>
            <p:cNvSpPr/>
            <p:nvPr/>
          </p:nvSpPr>
          <p:spPr>
            <a:xfrm>
              <a:off x="1744560" y="2225520"/>
              <a:ext cx="4286160" cy="240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44560" y="2225520"/>
              <a:ext cx="4286160" cy="240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12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-684360" y="22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-6843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-68436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744560" y="2271600"/>
            <a:ext cx="4286160" cy="2316240"/>
            <a:chOff x="1744560" y="2271600"/>
            <a:chExt cx="4286160" cy="2316240"/>
          </a:xfrm>
        </p:grpSpPr>
        <p:sp>
          <p:nvSpPr>
            <p:cNvPr id="228" name=""/>
            <p:cNvSpPr/>
            <p:nvPr/>
          </p:nvSpPr>
          <p:spPr>
            <a:xfrm>
              <a:off x="1744560" y="2271600"/>
              <a:ext cx="4286160" cy="23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44560" y="2271600"/>
              <a:ext cx="4286160" cy="23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122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0" name="07" descr=""/>
          <p:cNvPicPr/>
          <p:nvPr/>
        </p:nvPicPr>
        <p:blipFill>
          <a:blip r:embed="rId1"/>
          <a:srcRect l="1386" t="15696" r="1386" b="13739"/>
          <a:stretch/>
        </p:blipFill>
        <p:spPr>
          <a:xfrm>
            <a:off x="152280" y="2286000"/>
            <a:ext cx="8839440" cy="227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AID (X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RAID Level 10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aracteristics/Advantag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ID 10 is implemented as a striped array whose segments are RAID 1 array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ID 10 has the same fault tolerance as RAID level 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ID 10 has the same overhead for fault-tolerance as mirroring alon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I/O rates are achieved by striping RAID 1 segmen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der certain circumstances, RAID 10 array can sustain multiple simultaneous drive failur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cellent solution for sites that would have otherwise gone with RAID 1 but need some additional performance boos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advantag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ry expensive / High overhea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ll drives must move in parallel to proper track lowering sustained performanc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ry limited scalability at a very high inherent cos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commended Applica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atabase server requiring high performance and fault tolerance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AID 10: Very High Reliability Combined with High Performanc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4" name=""/>
          <p:cNvSpPr/>
          <p:nvPr/>
        </p:nvSpPr>
        <p:spPr>
          <a:xfrm>
            <a:off x="-6843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97160" y="6172200"/>
            <a:ext cx="607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ID Level 10 requires a minimum of 4 drives to imp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-6843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744560" y="2225520"/>
            <a:ext cx="4286160" cy="2408400"/>
            <a:chOff x="1744560" y="2225520"/>
            <a:chExt cx="4286160" cy="2408400"/>
          </a:xfrm>
        </p:grpSpPr>
        <p:sp>
          <p:nvSpPr>
            <p:cNvPr id="238" name=""/>
            <p:cNvSpPr/>
            <p:nvPr/>
          </p:nvSpPr>
          <p:spPr>
            <a:xfrm>
              <a:off x="1744560" y="2225520"/>
              <a:ext cx="4286160" cy="240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744560" y="2225520"/>
              <a:ext cx="4286160" cy="240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12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-6843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-68436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744560" y="2103480"/>
            <a:ext cx="4286160" cy="2651040"/>
            <a:chOff x="1744560" y="2103480"/>
            <a:chExt cx="4286160" cy="2651040"/>
          </a:xfrm>
        </p:grpSpPr>
        <p:sp>
          <p:nvSpPr>
            <p:cNvPr id="243" name=""/>
            <p:cNvSpPr/>
            <p:nvPr/>
          </p:nvSpPr>
          <p:spPr>
            <a:xfrm>
              <a:off x="1744560" y="2103480"/>
              <a:ext cx="4286160" cy="265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744560" y="2103480"/>
              <a:ext cx="4286160" cy="265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14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10" descr=""/>
          <p:cNvPicPr/>
          <p:nvPr/>
        </p:nvPicPr>
        <p:blipFill>
          <a:blip r:embed="rId1"/>
          <a:srcRect l="23465" t="9316" r="25150" b="7370"/>
          <a:stretch/>
        </p:blipFill>
        <p:spPr>
          <a:xfrm>
            <a:off x="1752480" y="1600200"/>
            <a:ext cx="6324840" cy="427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AID (X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RAID Level 53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aracteristics/Advant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ID 53 should really be called "RAID 03" because it is implemented as a striped (RAID level 0) array whose segments are RAID 3 array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ID 53 has the same fault tolerance as RAID 3 as well as the same fault tolerance overhea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gh data transfer rates are achieved thanks to its RAID 3 array segmen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gh I/O rates for small requests are achieved thanks to its RAID 0 strip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ybe a good solution for sites who would have otherwise gone with RAID 3 but need some additional performance boo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advant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ery expensive to imple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 disk spindles must be synchronized, which limits the choice of driv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yte striping results in poor utilization of formatted capac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AID 53: High I/O Rates and Data Transfer Performanc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9" name=""/>
          <p:cNvSpPr/>
          <p:nvPr/>
        </p:nvSpPr>
        <p:spPr>
          <a:xfrm>
            <a:off x="-6843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43000" y="601992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ID Level 53 requires a minimum of 5 drives to imp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-6843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-684360" y="22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744560" y="2225520"/>
            <a:ext cx="4286160" cy="2408400"/>
            <a:chOff x="1744560" y="2225520"/>
            <a:chExt cx="4286160" cy="2408400"/>
          </a:xfrm>
        </p:grpSpPr>
        <p:sp>
          <p:nvSpPr>
            <p:cNvPr id="254" name=""/>
            <p:cNvSpPr/>
            <p:nvPr/>
          </p:nvSpPr>
          <p:spPr>
            <a:xfrm>
              <a:off x="1744560" y="2225520"/>
              <a:ext cx="4286160" cy="240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744560" y="2225520"/>
              <a:ext cx="4286160" cy="240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12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-684360" y="22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-6843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-68436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744560" y="2103480"/>
            <a:ext cx="4286160" cy="2651040"/>
            <a:chOff x="1744560" y="2103480"/>
            <a:chExt cx="4286160" cy="2651040"/>
          </a:xfrm>
        </p:grpSpPr>
        <p:sp>
          <p:nvSpPr>
            <p:cNvPr id="260" name=""/>
            <p:cNvSpPr/>
            <p:nvPr/>
          </p:nvSpPr>
          <p:spPr>
            <a:xfrm>
              <a:off x="1744560" y="2103480"/>
              <a:ext cx="4286160" cy="265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744560" y="2103480"/>
              <a:ext cx="4286160" cy="265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14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2" name="53" descr=""/>
          <p:cNvPicPr/>
          <p:nvPr/>
        </p:nvPicPr>
        <p:blipFill>
          <a:blip r:embed="rId1"/>
          <a:srcRect l="17913" t="9316" r="18205" b="7370"/>
          <a:stretch/>
        </p:blipFill>
        <p:spPr>
          <a:xfrm>
            <a:off x="1066680" y="1676520"/>
            <a:ext cx="7467840" cy="40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roduction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I/O problem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se cluster of workstations end up being very similar to parallel machin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ame kind of applications can be run on th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problem is founded when executing these applic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ed a high performance I/O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applications work with very large data sets, which cannot be kept in mem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expect a fast file system that is able to write &amp; read this data very rapid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parallel applications are run on the cluster of workstations, the I/O system should allow cooperative oper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AID (X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RAID Level 0+1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aracteristics/Advantag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ID 0+1 is implemented as a mirrored array whose segments are RAID 0 array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ID 0+1 has the same fault tolerance as RAID level 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ID 0+1 has the same overhead for fault-tolerance as mirroring alon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I/O rates are achieved thanks to multiple stripe segmen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cellent solution for sites that need high performance but are not concerned with achieving maximum reliability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advantag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ID 0+1 is NOT to be confused with RAID 10. A single drive failure will cause the whole array to become, in essence, a RAID level 0 arra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ry expensive / High overhea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ll drives must move in parallel to proper track lowering sustained performanc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ry limited scalability at a very high inherent cos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commended Applica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maging application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eneral fileserver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AID 0+1: High Data Transfer Performanc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6" name=""/>
          <p:cNvSpPr/>
          <p:nvPr/>
        </p:nvSpPr>
        <p:spPr>
          <a:xfrm>
            <a:off x="-6843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43000" y="601992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ID Level 0+1 requires a minimum of 4 drives to imp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-68436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-684360" y="22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744560" y="2225520"/>
            <a:ext cx="4286160" cy="2408400"/>
            <a:chOff x="1744560" y="2225520"/>
            <a:chExt cx="4286160" cy="2408400"/>
          </a:xfrm>
        </p:grpSpPr>
        <p:sp>
          <p:nvSpPr>
            <p:cNvPr id="271" name=""/>
            <p:cNvSpPr/>
            <p:nvPr/>
          </p:nvSpPr>
          <p:spPr>
            <a:xfrm>
              <a:off x="1744560" y="2225520"/>
              <a:ext cx="4286160" cy="240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744560" y="2225520"/>
              <a:ext cx="4286160" cy="240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12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-684360" y="22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-6843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-68436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744560" y="2103480"/>
            <a:ext cx="4286160" cy="2651040"/>
            <a:chOff x="1744560" y="2103480"/>
            <a:chExt cx="4286160" cy="2651040"/>
          </a:xfrm>
        </p:grpSpPr>
        <p:sp>
          <p:nvSpPr>
            <p:cNvPr id="277" name=""/>
            <p:cNvSpPr/>
            <p:nvPr/>
          </p:nvSpPr>
          <p:spPr>
            <a:xfrm>
              <a:off x="1744560" y="2103480"/>
              <a:ext cx="4286160" cy="265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44560" y="2103480"/>
              <a:ext cx="4286160" cy="265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14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-68436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744560" y="2103480"/>
            <a:ext cx="4286160" cy="2651040"/>
            <a:chOff x="1744560" y="2103480"/>
            <a:chExt cx="4286160" cy="2651040"/>
          </a:xfrm>
        </p:grpSpPr>
        <p:sp>
          <p:nvSpPr>
            <p:cNvPr id="281" name=""/>
            <p:cNvSpPr/>
            <p:nvPr/>
          </p:nvSpPr>
          <p:spPr>
            <a:xfrm>
              <a:off x="1744560" y="2103480"/>
              <a:ext cx="4286160" cy="265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44560" y="2103480"/>
              <a:ext cx="4286160" cy="265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14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3" name="0p1" descr=""/>
          <p:cNvPicPr/>
          <p:nvPr/>
        </p:nvPicPr>
        <p:blipFill>
          <a:blip r:embed="rId1"/>
          <a:srcRect l="9575" t="9316" r="11260" b="7370"/>
          <a:stretch/>
        </p:blipFill>
        <p:spPr>
          <a:xfrm>
            <a:off x="228600" y="1676520"/>
            <a:ext cx="86868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hysical Placement of Data (V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Logical RAIDs (Software RAID)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Not connected to a single controller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trip the data among the disks in the network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Filesystem is responsible for both distributing the data and maintaining the desired tolerance leve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Behave like RAID5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hysical Placement of Data (V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Stripe Groups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Disadvantages of one groups having a very large disk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ny small write operations (can’t use bandwidth of the disk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de’s limit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ability of a failure increa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olutio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ouping of disk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hysical Placement of Data (IX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Log-Structured Filesystem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dea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st write operations are done sequential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duces the small-write proble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ased on the assumption that caches obtain very high read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rease the disk performanc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ehaves as log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ifferences between traditional Unix FS &amp; log-structured on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write are done sequentially in the log-structured F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such thing happens on a traditional o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se the disk perform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ifferences Between Traditional Unix FS and Log-structured On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71480" y="1461960"/>
          <a:ext cx="7647120" cy="536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1480" y="1461960"/>
                    <a:ext cx="7647120" cy="536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hysical Placement of Data (X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Solving the Small-Write Problem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Basic Idea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xing the log-structured filesystem and the logical RAID so that small-writes never occu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Using the cache to avoid writing until a large block is available, logging the parity, or building a two level RAID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Log-structured Filesystem as a Solution to the Small-write Problem in a Cluster of Workstation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1843200" y="1528920"/>
          <a:ext cx="5703840" cy="524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3200" y="1528920"/>
                    <a:ext cx="5703840" cy="52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hysical Placement of Data (X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Network-Attached Device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One of the problems in a file server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bandwidth of this disk is limited to the bandwidth of the memory in the serv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operations in the server become I/O bottleneck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o solv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twork-attached devi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/O devices should be connected to a host &amp; to a very high-bandwidth network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ID II syste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lobal File System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Example of a RAID-II File Server and Its Client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428840" y="1547640"/>
          <a:ext cx="6491160" cy="523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8840" y="1547640"/>
                    <a:ext cx="6491160" cy="523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roduction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I/O problems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Need to design high performance file system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plify the cooperation between proces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 able to use all the resources efficiently &amp; in an a transparent w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hysical Placement of Data (X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Network-Attached Device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RAID-II system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ree compone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high bandwidth RAI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high bandwidth netwo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host no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Global File System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rototype design for a distributed filesyst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ibu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ocking mechanism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aching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ost important performance limitation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low mechanical component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lutions, such as RAIDs,  are not sufficien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aching mechanism was proposed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Caching mechanism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asic ide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eeping the file blocks used by the applications in memory buff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 filesystem cache or buffer cach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minimize the number of times the filesystem has to access the dis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reases the performance of read operation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reases the write performance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aching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Multilevel Caching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ncreases the effectiveness of the caching system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 closer to the hardware the cache is, the less effective this cache i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st of locality has already been profited by the higher-level cach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ossible locations of a disk cache in a cluster of worksta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che at server side, client side, or even in bo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disks for storing remote inform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che-coherence problem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ossible Locations of a Disk Cache in a Cluster of Worksta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1320840" y="1498680"/>
          <a:ext cx="6504120" cy="519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0840" y="1498680"/>
                    <a:ext cx="6504120" cy="51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aching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Cache-Coherence Problem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pproaches to solv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laxing the sharing semant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ssion semantic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action semant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mantic where files never chang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efficient algorithms that can fulfill the Unix semant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ified block is immediately seen by all applications in the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herence algorith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aching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Cache-Coherence Problem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le-sharing semantic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ssion semanti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ll modifications done on a file are visible only, at the same time, to the processes running on that 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nce file is closed, all the modifications become visible to all the applications that open the modified fi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ample – AFS (Andrew File System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nsaction semanti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ll I/O operations are done between two control instructio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 transaction &amp; end transaction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ll modifications done between these two instructions will be invisible to the rest of the nodes until the transaction ov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nce the transaction is finished, all the modifications are propagated to the rest of the nod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B-oriented filesyst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as been used in parallel/distributed system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mantic where files never chan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nce a file is created it can never be modifi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aching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Cache-Coherence Problem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herence Algorith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t allowing the caching of write operations when a file is shar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k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nly node that has a token can modify the fi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n writing, invalidate copi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ad of node that has a token prevent other node from accessing fi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ken passing problem: failure and disconnect - expiration tim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ease is need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aring unit (token &amp; leas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r fi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r block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ser defined (are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WRICH scheme (intelligent) - mix with others: flush cop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 file server, last version of copy is accept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aching (V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ooperative Caching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ssump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client node keeps in its cache the most important blocks for their applic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don’t need cach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need many cach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nted block is already cached in other no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lication based cache management (greed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cache space is not well manag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ile block needed by a node may already be cached in a different no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aching (V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raditional Cooperative Caches (xFS)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design issues of the cooperation cach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ents of all the client caches had to be accessible from any node in the network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nglets (the last remaining copy of block) kept in the  cache as long as possi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hysical locality was to be encourag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ocks should be cached in the node that will most probably need the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ache is divided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cal par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the blocks needed by this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lobal par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the blocks needed by other nodes but cannot be kept in their cach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aching (V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raditional Cooperative Cach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lgorith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place block which is not singlet (LRU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all is singlet, random forwar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eiver node’s replacement policy is the sa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any block is forwarded twice without being accessed by any application, discard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n remote hit occur, block is copied to local cach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rawback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che coherency (local copy of a block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lexity of system increas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use of replication, cache is under utiliz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verhead for locality is greater than benefits obtained by encouraging physical loca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roduction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Using Clusters to Increase the I/O performanc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o achieve a high performance file syste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ed to examine the characteristics a cluster of workstations has &amp; the way we should use them to build better file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reat quantity of resour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ks that can be used in parall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rge amounts of memory to build big filesystem cach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gh-speed interconnection net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lay on remote nodes to perform many task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the memory of a remote node for cache block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tting closer to parallel machi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allel machine’s skills can be appli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aching (IX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New Generation in Cooperative Caching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AF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in ide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uild a big global cache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gnore physical local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 replica,  only one copy of a block exist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 cache coherency proble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re blocks can be cached, more effectiv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G-LRU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arch for a block that is in the same no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this block is among the 5% of LRU blocks, this block is replaced ( 5% determination 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wise LRU is applied (regardless of nod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efetching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Caching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blocks are used more than o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crease system performan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blocks are used first ti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 increase system performan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Solution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fetch theses blocks before they are requested by the us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Prefetching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ich blocks are most likely to be accessed in the near future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quire sharing all the data structures and block predic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vote to mono-processor syste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w is previous prefetching technique applied in parallel/ distributed system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efetching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Parallel Prefetch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 simplest ide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node prefetches its data in an isolated w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One-block-ahead prefetching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arallelism offered by the multiple disk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ulfill prefetching requests from each of the no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fetch large blocks using a logical RAI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roblem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ck of coordination in the prefetch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cooperati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have as the caches found in mono-processor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’t take advantage of the inherent parallelism of a cluster of workst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efetching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Transparent Informed Prefetching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ny of application on a cluster of workstations is sequenti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not take advantage of the I/O parallelis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good idea if the system could prefetch large portions of the file in parall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r gives hint to the system (access patter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ny blocks can be prefetch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n be performed in parall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ows sequential application to take advantage of the parallelis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eat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ow to hint I/O syste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tter knowledge of the way files access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tter prefetch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ecifies the access patter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efetching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ransparent Informed Prefetching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 similar approach without the hint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quire a predict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cide predicted blo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access patterns are specified, other node can prefetch all block expected =&gt; no cache mi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ffe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form very aggressive prefetch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fetch all the bloc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miss predic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dictor decides which blocks have to be prefetch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many miss-predicted blocks occurs, system performance decrea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efetching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cheduling Parallel Prefetching and Caching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Good prefetching and caching scheduling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hieve the best perform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Non-best performance cas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we prefetch blocks too ear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y may replace blocks that are still needed in the cach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we prefetch blocks too late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applications will need to wa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n a system with several disk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problem becomes even more complica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efetching (V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cheduling Parallel Prefetching and Caching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ggressiv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tiate a prefetching whenever a disk is read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laces the block that will be referenced furthest in the fut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should be started only if this new block does not replace another block that will be used soon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d for multiple disks when the load on the disks is unbalanc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efetching Scheduling Made by Aggressive Algorithm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Example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uppos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o disks and a cache with three bloc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tch a block for two units of tim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tch only one block per disk in parall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tream of blocks : F1, A1, B2, C1, D2, E1, F1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0" y="4524480"/>
          <a:ext cx="9144000" cy="19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24480"/>
                    <a:ext cx="9144000" cy="19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efetching (V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cheduling Parallel Prefetching and Caching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everse Aggressiv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problem with aggressive algorith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hieve bad result when the load is unbalanc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lect replacement decisions by balancing disk worklo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ild the reserved sequence of reques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ild an aggressive schedul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16000" indent="-223920">
              <a:lnSpc>
                <a:spcPct val="9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void the replacement in parallel of blocks on the same dis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16000" indent="-223920">
              <a:lnSpc>
                <a:spcPct val="9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etch more than one blocks from the same dis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16000" indent="-223920">
              <a:lnSpc>
                <a:spcPct val="9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ream of blocks are reserved seque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form this schedule back to a schedule for the original seque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16000" indent="-223920">
              <a:lnSpc>
                <a:spcPct val="9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om reserved sequence to forward sequenc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cheduling of the Aggressive Algorithm on the Reversed Sequenc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52280" y="3875040"/>
          <a:ext cx="8863200" cy="16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875040"/>
                    <a:ext cx="8863200" cy="16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8632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tream of blocks : F1, A1, B2, C1, D2, E1, F1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ggressive scheduling for the reverse sequence (F1, E1, D2, C1, B2, A1, and F1)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hysical Placement of Data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Designing a file system for a cluster of workstation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isibility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n one hand, many disks scattered among the nod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n the other hand, want to use them from any node in the clust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hieving a high performance I/O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ks are mainly built of mechanical components that slow down the most common operations (head movement, disk rotation, etc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only solution left to increase the disk performance at this level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lacing the data in such a way that the mechanical parts have as little effect as possible on the global disk perform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refetching Scheduling Obtained by the Reverse-Aggressive Algorithm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0" y="3049560"/>
          <a:ext cx="9144000" cy="19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560"/>
                    <a:ext cx="9144000" cy="19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152280" y="1752480"/>
            <a:ext cx="8863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tream of blocks : F1, A1, B2, C1, D2, E1, F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efetching (V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Scheduling Parallel Prefetching and Caching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Differenc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ggressive algorith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oose evictions without considering the relative loads on the dis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wastefully prefet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erse aggressive algorith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eedily evicts as many disks as possible loads on the dis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not wastefully than aggressi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erface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he higher layer in an I/O system is the interface with the user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llow the application to request the data from the I/O syste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llow the user (or compiler) to inform syste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here is a need to express the parallelism of the data kept in the filesystem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In parallel environment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raditional interfaces have become inadequat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 good interfac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re the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operate when requesting the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press concepts of data parallelism and cooperative opera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No real standard parallel interface has been designed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erface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raditional interface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n mono-processor filesystems (specially Unix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le is a linear sequence of bytes - so need a poin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inly used ope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pen(), close(), read(), write(), seek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not have a shared poin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time open operation is performed, a new read/write pointer is crea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le pointer can be inherited to only child-proc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not read or write a set of non-contiguous reg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ow atomic read and write of sequential por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nadequate to apply distributed/parallel system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erface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hared File Pointer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llow several processes to work with the same file point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possibility to coordinate processes to access a share file in a cooperative wa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Kinds of share file pointer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lobal shared poin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wo special share poin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tributed shared poin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Global shared point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ow all the applic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are pointer with no limit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n be operations of any size and any ord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fficult to implement efficiently in a distributed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erface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hared File Pointer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wo special shared pointer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ow all applications share pointer to access the file in round-robin ord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allow each process to request any number of byte in each request, the second one all requests must be the same siz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ite easy to imple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istributed shared point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void overlap files between data accessed by any two proces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ow each proc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cess different (not overlapped) portion of fi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dd as little overhea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sed on round-robin schedul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erface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Access Method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tride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eat number of the I/O operations done in a parallel environment use strided patter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rided oper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cesses several pieces of data that are not contiguous but separated by a certain number of by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not be handled easily nor efficiently using the traditional interf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erface (V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Access Methods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Three new interfaces by the Galley filesystem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ple-strid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ow the user to access to N blocks of M bytes placed P bytes apart from each oth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Example of a Simple-Strided Opera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1847880"/>
          <a:ext cx="9144000" cy="32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47880"/>
                    <a:ext cx="9144000" cy="32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erface (V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ree new interfaces by the Galley filesystem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Nested strided opera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ild a vector of stri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fferent levels of stri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t one strid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presents the placement of data bloc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other strid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dicate in which positions does the next level strides star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o-level strid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rst level: indicate next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level: user wanted blo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hysical Placement of Data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Increasing the Visibility of the File system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first problem found in a cluster of workstation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mall visibi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ile many disks are available, only the ones attached to the node where a process is running are visible to that 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ny distributed systems have used the mount concept of Unix to increase the visibi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ounting Remote Filesystem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o maintain the remote-mount informa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wo possibi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intaining the mount information at clients (NF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maintain the mount information at servers (Sprite filesystem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lution: caching mechanis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Example of a Nested-Strided Operation with Two Levels of Stride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0" y="1603440"/>
          <a:ext cx="8943840" cy="49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3440"/>
                    <a:ext cx="8943840" cy="49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erface (V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Three new interfaces by the Galley filesystem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Nested-batched operation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ke several simple and nested strided operations as a single ope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d as one of the parameters in the read or write ope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erface (IX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Access Methods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MPI-IO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/O interface for MPI message-passing libr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ow the user to specify the distribution of the file among the user sp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igned with a very clear set of go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rgeted primarily for scientific applic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erface (X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MPI-IO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ree steps in data partition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rst ste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fines the size of the basic element or etyp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lement is used to construct the patterns needed in the next two step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cond ste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one in the open opera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pecify which parts of the complete file will be used to construct the opened subfi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pecifies the filetype to describe a pattern of etyp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letype defines the subfile to acces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rd ste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n be done in each read/write opera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ser defines how the accessed elements should be placed in the buff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uilt buftype from etyp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uftyp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pattern telling the system where to place the elemen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n Example of Data Partitioning in MPI-IO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1933560" y="1498680"/>
          <a:ext cx="5584680" cy="534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3560" y="1498680"/>
                    <a:ext cx="5584680" cy="53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erface (X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Data Distribution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ow the user to deci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ow data was distributed among the disk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ow this data is to be accessed by the applica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wo-dimensional files (Vesta filesystem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ivision of a file into cells and Basic Striping Units (BSU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llow us to see the file as a two-dimensional arra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el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ntiguous portion of a fil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efine at creation tim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mains constant during the whole life of the fil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ach of the cell is placed in a different I/O node (disk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 number of cell equal the maximum parallelis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lacement is made by system with no interaction from the us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SU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ts of bytes and behave as the basic data unit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sed by repartition mechanis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t at creation time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mains unmodified during the whole life of the fil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chematic Representation of a Two-Dimensional File in Vesta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1666800" y="1476360"/>
          <a:ext cx="5662800" cy="530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0" y="1476360"/>
                    <a:ext cx="5662800" cy="530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Example of an Open Operation in Vesta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885960" y="1522440"/>
          <a:ext cx="7183440" cy="533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5960" y="1522440"/>
                    <a:ext cx="7183440" cy="53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erface (X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ollective I/O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s the degree of parallelism increas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y small I/O request occur (many seek operations occur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each process requests very few bytes in each oper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achieve high perform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ll computing nodes cooperate to perform I/O operations from the disk in order to improve efficiency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uild a single big operation from all the small ones requested by each clien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erface (X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31400" y="1498320"/>
            <a:ext cx="8862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Extensible System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Users decide which algorithms are best suited for their application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aching and prefetching strategie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ynchronous operations (Paragon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lications can decide what has to be prefetched and when it has to be d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osing one of the predefined policies in kern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r-implemented polic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irectory Tree Build Mixing Remote and Local Filesyste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609560" y="1522440"/>
          <a:ext cx="5924880" cy="529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9560" y="1522440"/>
                    <a:ext cx="5924880" cy="52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ference Book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396" name="MYBOOK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575160" cy="4826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i Jin</dc:creator>
  <dc:description/>
  <dc:language>en-US</dc:language>
  <cp:lastModifiedBy>Rajkumar Buyya</cp:lastModifiedBy>
  <dcterms:modified xsi:type="dcterms:W3CDTF">2001-12-31T06:54:10Z</dcterms:modified>
  <cp:revision>893</cp:revision>
  <dc:subject/>
  <dc:title>HPCC - Chapter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npac.syr.edu/projects/pcrc/HPJava/beijing.html</vt:lpwstr>
  </property>
  <property fmtid="{D5CDD505-2E9C-101B-9397-08002B2CF9AE}" pid="9" name="LinkColor">
    <vt:r8>16711782</vt:r8>
  </property>
  <property fmtid="{D5CDD505-2E9C-101B-9397-08002B2CF9AE}" pid="10" name="MailAddress">
    <vt:lpwstr>dbc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s\dbc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