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8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10.wmf" ContentType="image/x-wmf"/>
  <Override PartName="/ppt/media/image20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30.png" ContentType="image/png"/>
  <Override PartName="/ppt/media/image5.png" ContentType="image/png"/>
  <Override PartName="/ppt/media/image8.jpeg" ContentType="image/jpeg"/>
  <Override PartName="/ppt/media/image34.wmf" ContentType="image/x-wmf"/>
  <Override PartName="/ppt/media/image14.png" ContentType="image/png"/>
  <Override PartName="/ppt/media/image35.wmf" ContentType="image/x-wmf"/>
  <Override PartName="/ppt/media/image6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9.jpeg" ContentType="image/jpeg"/>
  <Override PartName="/ppt/media/image1.png" ContentType="image/png"/>
  <Override PartName="/ppt/media/image16.png" ContentType="image/png"/>
  <Override PartName="/ppt/media/image17.wmf" ContentType="image/x-wmf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669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8DFC59-DBE0-4489-90CF-C43C4BD8DAD8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90342F-9D0E-450C-AA27-29DC753F607B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915840" y="4704840"/>
            <a:ext cx="50515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ldImg"/>
          </p:nvPr>
        </p:nvSpPr>
        <p:spPr>
          <a:xfrm>
            <a:off x="973080" y="749160"/>
            <a:ext cx="4937040" cy="3702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390060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1C46F3-2B97-4595-B481-C8BCE74770F0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9408600"/>
            <a:ext cx="298296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900600" y="0"/>
            <a:ext cx="298296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ldImg"/>
          </p:nvPr>
        </p:nvSpPr>
        <p:spPr>
          <a:xfrm>
            <a:off x="966960" y="1150920"/>
            <a:ext cx="2850840" cy="2138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535A-6A6E-4001-8F1D-F5204D766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CE48-6ED4-4288-A46B-10715630A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EA41-1C7D-451B-B09B-E546E73B6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36FA-96DE-4C04-A950-011C2379F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C2C5-E27A-4F22-91D1-362515B414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DA7B-23D9-4B65-BF2F-5947105987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D0C8-D53B-4A40-B3AA-813BD1B1B1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2092-CF10-4415-B2A2-ED6055CE5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5800-74F3-4E63-827F-CFD48A5C9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280E-5BCD-48ED-B851-1250517E6C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797F-9F7B-4EE9-ADAC-4A1F21FFA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D943-DCCF-4582-8D53-F81C52D41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2D75-B731-4A71-8CC1-B9E47B2129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5FEC-C063-4AF7-840B-DE89D3FA5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429B-2FE1-4B06-9648-3CBCBD0365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45395-2582-4B96-8B38-52C08F1F3A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6880" y="167652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6880" y="4004280"/>
            <a:ext cx="2723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2F98-CF4C-4419-8871-48E5F4956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A3A6-4369-48B3-AE3C-988252DB3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CD63-E573-4ABC-B350-78296C279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4FBC-FF4A-4974-85E2-94D00B2DF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FF8B-B3D6-41C2-B330-8B7B26D68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E770-828E-42C9-9FA3-44E43DF01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00428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927F-D0D5-43C9-9425-A76D8E129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76520"/>
            <a:ext cx="4127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04280"/>
            <a:ext cx="84582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F99A-6071-429C-9843-D4D038A7A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C7C8-4D0A-4F09-9AD6-1361ADB916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16440" y="648324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65DB-FD6D-49C8-AC01-B0E3574D2793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E13F-21BE-4941-AA47-929DFAB4637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1.wmf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wmf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3.xml"/><Relationship Id="rId21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Characteristic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compchar" descr=""/>
          <p:cNvPicPr/>
          <p:nvPr/>
        </p:nvPicPr>
        <p:blipFill>
          <a:blip r:embed="rId1"/>
          <a:srcRect l="3663" t="8060" r="2563" b="15382"/>
          <a:stretch/>
        </p:blipFill>
        <p:spPr>
          <a:xfrm>
            <a:off x="304920" y="1523880"/>
            <a:ext cx="84582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owards Low Cost Parallel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ing together 2 or more computers to jointly solve some computational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ce the early 1990s, an increasing trend to move away from expensive and specialized proprietary parallel supercomputers towards networks of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apid improvement in the availability of commodity high performance components for workstations and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-cost commodity super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pecialized traditional supercomputing platforms to cheaper, general purpose systems consisting of loosely coupled components built up from single or multiprocessor PCs or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standardization of many of the tools and utilities used by parallel applic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) MPI, H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tivations of using NOW over Specialized Parallel Compu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ividual workstations are becoming increasing powerfu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mmunication bandwidth between workstations is increasing and latency is decreas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easier to integrate into existing network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ypical low user utilization of personal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velopment tools for workstations are more ma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Workstation clusters are a cheap and readily availabl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s can be easily grow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76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orkstations with UNIX for science &amp; industry vs PC-based machines for administrative work &amp; work process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rapid convergence in processor performance and kernel-level functionality of UNIX workstations and PC-based machin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34200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of Opportunit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arallel Processing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processors to build MPP/DSM-like systems for parallel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emory associated with each workstation as aggregate DRAM cac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oftware RAI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ndant array of inexpensive 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e arrays of workstation disks to provide cheap, highly available, &amp;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e to provide parallel I/O support to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rrays of workstation disks to provide cheap, highly available, and scalable file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ultipath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ultiple networks for parallel data transfer between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nd its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cluster is a type of parallel or distributed processing system, which consists of a collection of interconnected stand-alone  computers cooperatively working together as a single, integrated computing resour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nod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ngle or multiprocessor system with memory, I/O facilities, &amp;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2 or more computers (nodes) connected toge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single cabinet, or physically separated &amp; connected via a 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a single system to users and applic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cost-effective way to gain features and benef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37" name="clustmodel" descr=""/>
          <p:cNvPicPr/>
          <p:nvPr/>
        </p:nvPicPr>
        <p:blipFill>
          <a:blip r:embed="rId1"/>
          <a:srcRect l="862" t="3598" r="0" b="6728"/>
          <a:stretch/>
        </p:blipFill>
        <p:spPr>
          <a:xfrm>
            <a:off x="228600" y="1828800"/>
            <a:ext cx="87631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Comic Sans MS"/>
              </a:rPr>
              <a:t>Multiple High Performance Computers</a:t>
            </a:r>
            <a:endParaRPr b="0" lang="en-US" sz="4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Ps (CLUM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HPC Systems leading to Meta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63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State of the art Operating System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owul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 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HPV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olar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NO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AI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BM SP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U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linois - PAN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 (Microkernel based OS) (CM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 Operating Systems (Solaris MC, SCO Unixware, MOSIX (academic proje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 gluing lay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rkeley Gluni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igh Performance Networks/Swit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thernet (1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Ethernet (100Mbps),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igabit Ethernet (1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I  (Dolphin - MPI- 12micro-sec latenc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yrinet (1.2Gbp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Memory Chann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DDI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ing at a Gl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: by M. Baker and R. Buyya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9725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le Parallel Computer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wards Low Cost Parallel Computing and Motiv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indows of Opportun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luster Computer and its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Class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modity Components for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Service/Communications S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Middleware and Single System Im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ource Management and Scheduling (RM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gramming Environments and To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presentative Cluste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 of SMPs (CLUMP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1998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mmary and Conclus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48960" y="3352680"/>
            <a:ext cx="2785320" cy="3431160"/>
            <a:chOff x="6348960" y="3352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67480" y="3352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348960" y="6476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etwork Interface Card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Myrinet has NIC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User-level access support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Communication Protocols and Servic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ctive Messages (Berkeley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ast Messages (Illinois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-net (Cornell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XTP (Virginia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uster Middlewa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System Image (SS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vailability (SA) Infra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Hardware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 Memory Channel, DSM (Alewife, DASH), SMP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perating System Kernel/Gluing Lay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aris MC, Unixware, GL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pplications and Sub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(system management and electronic fo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time systems (software DSM, PFS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anagement and scheduling software (RM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NE, LSF, PBS, NQ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arallel Programming Environments and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ads (PCs, SMPs, NOW.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ux, NT, on many Supercompu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DSMs (Shm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/C++/Ja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allel programming with C++ (MIT Press boo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 (rapid application development too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UI based tools for PP model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Analysis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ualization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minent Component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Compu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quential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/ Distributed (Cluster-aware app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ather Foreca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um Chemist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ecular Biology Mode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gineering Analysis (CAD/C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DBs, web servers,data-m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y Operational Benefits of Cluster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Expandability and Sca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Throughput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igh Availability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Application Target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Performance (HP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nd Challenging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igh Availability (HA)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on Critical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Ownership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on-dedicated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ive parallel compu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al multiproces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Hardware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PCs (Co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es of PCs (PoP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Workstations (COW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lusters of SMPs (CLUMPs)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67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 Clusters (e.g., Beowulf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laris Clusters  (e.g., Berkeley NOW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T Clusters (e.g., HPVM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IX Clusters (e.g., IBM SP2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CO/Compaq Clusters (Unixware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gital VMS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P-UX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icrosoft Wolfpack clust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ed more computing pow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mprove the operating speed of processors &amp; other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ed by the speed of light, thermodynamic laws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&amp; the high financial costs for processor fabr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 multiple processors together &amp; coordinate their computational effor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llel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the sharing of a computational task among multip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Node Configuration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om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similar architectures and run the same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eterogeneous Clusters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nodes will have different architectures and run different O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s Classification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vels of Clusterin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Clusters (#nodes: 2-99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are connected by SAN like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partmental Clusters (#nodes: 10s to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al Clusters (#nodes: many 100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 Metacomputers (WAN/Internet-base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tional Metacomputers (Internet-based, #nodes: 1000s to many mill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-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Based Comp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ava plays a major in web and agent based compu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ocesso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l x86 Process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ntium Pro and Pentium Xe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MD x86, Cyrix x86,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gital Alp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pha 21364 processor integrates processing, memory controller, network interface into a single ch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M Power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SPAR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I M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P 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keley Intelligent RAM (IRAM) integrates processor and DRAM onto a single ch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mory and Cache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Industry Memory Module (SIM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ed Data Out (E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next access to begin while the previous data is still being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multiple adjacent accesses to be made more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o DRAM is extremely slow compared to the speed of th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very fast memory used for Cache is expensive &amp; cache control circuitry becomes more complex as the size of the cache g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in Pentium-based machines, uncommon to have a 64-bit wide memory bus as well as a chip set that support 2Mbytes of external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sk and I/O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 improvement in disk access time has been less than 10% per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dahl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peed-up obtained by from faster processors is limited by the slowest system compon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llel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ry out I/O operations in parallel, supported by parallel file system based on hardware or software RAI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ystem Bu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A bus (AT bu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5MHz and 8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cked at 13MHz and 16 bits wi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SA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2 bits bus matched system’s clock spe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I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33Mbytes/s transfer ra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opted both in Pentium-based PC and non-Intel platform (e.g., Digital Alpha Serve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over high-speed networks using a standard networking protocol such as TCP/IP or a low-level protocol such as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ap, easy way to provide file and printer shar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 &amp; latency are not balanced with the computational pow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, Fast Ethernet, and Gigabit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Ethernet – 100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gabit Ethern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rve Ethernet’s simplic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iver a very high bandwidth to aggregate multiple Fast Ethernet seg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ynchronous Transfer Mode (AT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virtual-circuit technolog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 (small fixed-size data packe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optical fiber - expensive upgr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lephone style cables (CAT-3) &amp; better quality cable (CAT-5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le Coherent Interfaces (SCI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EEE 1596-1992 standard aimed at providing a low-latency distributed shared memory across a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nt-to-point architecture with directory-based cache coh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duce the delay interprocessor communicatio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liminate the need for runtime layers of software protocol-paradigm transl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ess than 12 usec zero message-length latency on Sun SPAR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igned to support distributed multiprocessing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with high bandwidth and low latenc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 cards for SPARC’s SBus and PCI-based SCI cards from Dolph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alability constrained by the current generation of switches &amp; relatively expensive compon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luster Interconnec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ri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8 Gbps full duplex interconnection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low latency cut-through routing switches, which is able to offer fault tolerance by automatic mapping of the network configu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 both Linux &amp; 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low latency (5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, one-way point-to-poi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y high through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mable on-board processor for greater flexi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ensive: $1500 per ho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icated scaling: switches with more than 16 ports are un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 fundamental services for us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the computer hardware easier to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a virtual machine that differs markedly from the real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hardware resources among us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or - multitas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new concept in OS ser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threads of control in a proces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llelism within a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threading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IX thread interface is a standard programming enviro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arity – MS Windows, IBM OS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kernel – provide only essential OS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level abstraction of OS port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to Run Applications Faster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3 ways to improve performance: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Hard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ork Smar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t Hel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mputer Analog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Using faster hardware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Optimized algorithms and techniques used to solve computational tasks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Multiple computers to solve a particular task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I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X-like O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s on cheap x86 platform, yet offers the power and flexibility of UN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ily available on the Internet and can be downloaded without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y to fix bugs and improve system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develop or fine-tune hardware drivers which can easily be made available to other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 such as preemptive multitasking, demand-page virtual memory, multiuser, multiprocessor sup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X-based multithreading and multiuser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Intel x86 &amp; SPARC-based platfo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l-time scheduling feature critical for multimedia applica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two kinds of threa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ght Weight Processes (LW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er level thre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both BSD and several non-BSD fil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F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utoCli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mpFS: uses main memory to contain a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Pro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ile syste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port distributed computing &amp; is able to store &amp; retrieve distributed inform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nWindows allows application to be run on remote 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dity Components for Clusters (X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erating System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Windows NT (New Technolog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Preemptive, multitasking, multiuser, 32-bits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Object-based security model and special file system (NTFS) that allows permissions to be set on a file and directory basis 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multiple CPUs and provide multitasking using symmetrical multiprocessing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upport different CPUs and multiprocessor machines with thread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ave the network protocols &amp; services integrated with the base O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everal built-in networking protocols (IPX/SPX., TCP/IP, NetBEUI), &amp; APIs (NetBIOS, DCE RPC, Window Sockets (Winsock))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indows NT 4.0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91" name="compera" descr=""/>
          <p:cNvPicPr/>
          <p:nvPr/>
        </p:nvPicPr>
        <p:blipFill>
          <a:blip r:embed="rId1"/>
          <a:srcRect l="4169" t="2595" r="4169" b="2595"/>
          <a:stretch/>
        </p:blipFill>
        <p:spPr>
          <a:xfrm>
            <a:off x="1219320" y="1523880"/>
            <a:ext cx="7238880" cy="52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Services/ Communication S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infrastructure support protocol for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lk-data trans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ing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commun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munication service provide cluster with important QoS parame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ult-toler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itter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service are designed as hierarchical stack of protocols with relatively low-level communication API, provide means to implement wide range of communication methodologi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eam-based and message passing interface (e.g., MPI, PV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Middleware &amp; SS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S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ed by a middleware layer that resides between the OS and user-level environ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ddleware consists of essentially 2 sublayers of SW infra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SI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ue together OSs on all nodes to offer unified acces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ystem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availability infrastru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 cluster services such as checkpointing, automatic failover, recovery from failure, &amp; fault-tolerant support among all nodes of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34272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is Single System Image (SSI) ?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single system image is the </a:t>
            </a:r>
            <a:r>
              <a:rPr b="0" lang="en-US" sz="3500" spc="-1" strike="noStrike" u="sng">
                <a:solidFill>
                  <a:srgbClr val="0000ff"/>
                </a:solidFill>
                <a:uFillTx/>
                <a:latin typeface="Comic Sans MS"/>
              </a:rPr>
              <a:t>illusion</a:t>
            </a: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, created by software or hardware, that presents a collection of resources as one, more powerful resource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SSI makes the cluster appear like a single machine to the user, to applications, and to the network.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A cluster without a SSI is not a cluster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ound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Every SSI has a boundary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Comic Sans MS"/>
              </a:rPr>
              <a:t>SSI support can exist at different levels within a system, one able to be build on another</a:t>
            </a:r>
            <a:endParaRPr b="0" lang="en-US" sz="39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Boundaries -- an applications SSI bound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207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e4a8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e4a8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55480" y="6189840"/>
            <a:ext cx="114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4272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Levels/Lay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066680" y="2133720"/>
            <a:ext cx="6921720" cy="4114440"/>
            <a:chOff x="1066680" y="2133720"/>
            <a:chExt cx="6921720" cy="4114440"/>
          </a:xfrm>
        </p:grpSpPr>
        <p:grpSp>
          <p:nvGrpSpPr>
            <p:cNvPr id="213" name=""/>
            <p:cNvGrpSpPr/>
            <p:nvPr/>
          </p:nvGrpSpPr>
          <p:grpSpPr>
            <a:xfrm>
              <a:off x="1066680" y="2133720"/>
              <a:ext cx="6921720" cy="1118520"/>
              <a:chOff x="1066680" y="2133720"/>
              <a:chExt cx="6921720" cy="1118520"/>
            </a:xfrm>
          </p:grpSpPr>
          <p:sp>
            <p:nvSpPr>
              <p:cNvPr id="214" name=""/>
              <p:cNvSpPr/>
              <p:nvPr/>
            </p:nvSpPr>
            <p:spPr>
              <a:xfrm>
                <a:off x="1066680" y="213372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58520" y="2406600"/>
                <a:ext cx="4309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Application and Subsystem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066680" y="3579480"/>
              <a:ext cx="6921720" cy="1118520"/>
              <a:chOff x="1066680" y="3579480"/>
              <a:chExt cx="6921720" cy="1118520"/>
            </a:xfrm>
          </p:grpSpPr>
          <p:sp>
            <p:nvSpPr>
              <p:cNvPr id="217" name=""/>
              <p:cNvSpPr/>
              <p:nvPr/>
            </p:nvSpPr>
            <p:spPr>
              <a:xfrm>
                <a:off x="1066680" y="3579480"/>
                <a:ext cx="6921720" cy="1118520"/>
              </a:xfrm>
              <a:prstGeom prst="ellipse">
                <a:avLst/>
              </a:prstGeom>
              <a:solidFill>
                <a:srgbClr val="023cc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2560" y="3852360"/>
                <a:ext cx="4055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afd00"/>
                    </a:solidFill>
                    <a:latin typeface="Times New Roman"/>
                  </a:rPr>
                  <a:t>Operating System Kernel 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066680" y="5129280"/>
              <a:ext cx="6921720" cy="11188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0200" y="5402520"/>
              <a:ext cx="2154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Hardware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ra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pid technical advan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cent advances in VLSI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ware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, PL, development methodologies, &amp;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d challenge applications have become the main driving fo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allel compu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 best ways to overcome the speed bottleneck of a single proce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rice/performance ratio of a small cluster-based parallel comp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Harware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63680" y="1530360"/>
            <a:ext cx="8216640" cy="486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3680" y="228600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7000" y="170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74360" y="17017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1530360"/>
            <a:ext cx="0" cy="486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680" y="33526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3680" y="441972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680" y="5410080"/>
            <a:ext cx="821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2640" y="1701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6680" y="170172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5880" y="44449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1200" y="43689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D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79440" y="4444920"/>
            <a:ext cx="2098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communic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on and synchr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05560" y="4444920"/>
            <a:ext cx="166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5520" y="5511960"/>
            <a:ext cx="10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14280" y="5435640"/>
            <a:ext cx="236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, SMP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54356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4480" y="5435640"/>
            <a:ext cx="186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n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301760" y="2444760"/>
            <a:ext cx="6921360" cy="825480"/>
            <a:chOff x="1301760" y="2444760"/>
            <a:chExt cx="6921360" cy="825480"/>
          </a:xfrm>
        </p:grpSpPr>
        <p:sp>
          <p:nvSpPr>
            <p:cNvPr id="243" name=""/>
            <p:cNvSpPr/>
            <p:nvPr/>
          </p:nvSpPr>
          <p:spPr>
            <a:xfrm>
              <a:off x="1301760" y="244476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99360" y="264636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301760" y="3511440"/>
            <a:ext cx="6921360" cy="825480"/>
            <a:chOff x="1301760" y="3511440"/>
            <a:chExt cx="6921360" cy="825480"/>
          </a:xfrm>
        </p:grpSpPr>
        <p:sp>
          <p:nvSpPr>
            <p:cNvPr id="246" name=""/>
            <p:cNvSpPr/>
            <p:nvPr/>
          </p:nvSpPr>
          <p:spPr>
            <a:xfrm>
              <a:off x="1301760" y="351144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23760" y="371304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Operating System Kernel (Underware) or Gluing Lay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3680" y="1530360"/>
            <a:ext cx="8312040" cy="4908960"/>
            <a:chOff x="463680" y="1530360"/>
            <a:chExt cx="8312040" cy="4908960"/>
          </a:xfrm>
        </p:grpSpPr>
        <p:sp>
          <p:nvSpPr>
            <p:cNvPr id="251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840" y="2235240"/>
              <a:ext cx="116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1120" y="2311560"/>
              <a:ext cx="2667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laris MC, Unixwa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SIX, Sprite,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 GLUni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2560" y="3378240"/>
              <a:ext cx="1170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5880" y="4444920"/>
              <a:ext cx="103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3301920"/>
              <a:ext cx="220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IX (Sun) vnod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us (IBM) vpr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8880" y="2235240"/>
              <a:ext cx="2098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name spa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s, processe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ipes, devic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3960" y="2311560"/>
              <a:ext cx="20116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 support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, a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35800" y="4368960"/>
              <a:ext cx="261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e suppor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ng system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9960" y="3301920"/>
              <a:ext cx="1645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ype of 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jects: fil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56120" y="3378240"/>
              <a:ext cx="1859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ularizes S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de with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85920" y="4444920"/>
              <a:ext cx="18806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y simplif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 kernel ob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05560" y="4444920"/>
              <a:ext cx="1801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 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680" y="551196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08520" y="5435640"/>
              <a:ext cx="2639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h, PARAS, Choru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/1AD, Amo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86280" y="5435640"/>
              <a:ext cx="2089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 SSI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system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00880" y="5435640"/>
              <a:ext cx="1432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side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1920" y="3780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at Application and Subsystem Layer (Middleware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3680" y="1530360"/>
            <a:ext cx="8383680" cy="4908960"/>
            <a:chOff x="463680" y="1530360"/>
            <a:chExt cx="8383680" cy="4908960"/>
          </a:xfrm>
        </p:grpSpPr>
        <p:sp>
          <p:nvSpPr>
            <p:cNvPr id="282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6240" y="238752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37240" y="2387520"/>
              <a:ext cx="2310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uster batch system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1480" y="337824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5520" y="4444920"/>
              <a:ext cx="129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33640" y="3301920"/>
              <a:ext cx="205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tributed DB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ME, Lotu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es, MPI, PV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06280" y="2387520"/>
              <a:ext cx="161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 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64400" y="2387520"/>
              <a:ext cx="1342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a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39400" y="4368960"/>
              <a:ext cx="177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n NFS, OSF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FS, NetWar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o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82600" y="3378240"/>
              <a:ext cx="142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8920" y="3378240"/>
              <a:ext cx="1688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SI for 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s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4840" y="4444920"/>
              <a:ext cx="2162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icitly suppor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y applic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d sub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3040" y="4444920"/>
              <a:ext cx="1990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ared portion of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920" y="543564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16440" y="5435640"/>
              <a:ext cx="174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SF DCE, Su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+, Apol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77640" y="5435640"/>
              <a:ext cx="1969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level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port for he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geneous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05560" y="5435640"/>
              <a:ext cx="203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plicit toolk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acilities: use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 name,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) In search of clu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ngle System Image Benefi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e a simple, straightforward view of all system resources and activities, from any node of the clust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end user from having to know where an application will ru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ree the operator from having to know where a resource is locate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et the user work with familiar interface and commands and allows the administrators to manage the entire clusters as a single ent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duce the risk of operator errors, with the result that end users see improved reliability and higher availability of th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372960"/>
            <a:ext cx="88394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ngle System Image Benefits (Cont’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llowing centralize/decentralize system management and control to avoid the need of skilled administrators from system administr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esent multiple, cooperating components of an application to the administrator as a single appl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Greatly simplify system management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location-independent messag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elp track the locations of all resource so that there is no longer any need for system operators to be concerned with their physical lo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rovide transparent process migration and load balancing across nodes.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mproved system response time and performanc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28440" y="3420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iddleware Design Goal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lete Transparency in Resource Managemen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user to use a cluster easily without the knowledge of the underlying system archite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user is provided with the view of a globalized file system, processes, and networ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calable Performan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easily be expanded, their performance should scale as w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extract the max performance, the SSI service must support load balancing &amp; parallelism by distributing workload evenly among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hanced Availabilit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ddleware service must be highly available at all ti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any time, a point of failure should be recoverable without affecting a user’s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checkpointing &amp; fault tolerant technolog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le consistency of data when repli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342720"/>
            <a:ext cx="8791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SI Support Servi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Entry Poi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cluster.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net node1.cluster. myinstitute.ed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File Hierarchy: xFS, AFS, Solaris MC Prox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anagement and Control Point: Management from single GUI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Virtual Network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Memory Space - Network RAM / DS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Job Management: GLUnix, Codine, LSF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User Interface: Like workstation/PC windowing environment (CDE in Solaris/NT), may it can use Web technolog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1295640" cy="8380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2361960" y="2209680"/>
            <a:ext cx="533520" cy="533160"/>
            <a:chOff x="2361960" y="2209680"/>
            <a:chExt cx="533520" cy="533160"/>
          </a:xfrm>
        </p:grpSpPr>
        <p:sp>
          <p:nvSpPr>
            <p:cNvPr id="321" name=""/>
            <p:cNvSpPr/>
            <p:nvPr/>
          </p:nvSpPr>
          <p:spPr>
            <a:xfrm flipH="1">
              <a:off x="236196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2320" y="2209680"/>
              <a:ext cx="53316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1920" y="218880"/>
            <a:ext cx="87915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vailability Support 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I/O Space (SIOS):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node can access any peripheral or disk devices without the knowledge of physical locatio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ngle Process Space (SP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process on any node create process with cluster wide process wide and they communicate through signal, pipes, etc, as if they are one a single no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 and Process Migration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aves the process state and intermediate results in memory to disk to support rollback recovery when node fai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M for dynamic load balancing among the cluster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791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source Management and Scheduling (RM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MS is the act of distributing applications among computers to maximize their throughpu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nable the effective and efficient utilization of the resources availabl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ftware compon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mana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cating and allocating computational resource, authentication, process creation and mig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urce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eueing applications, resource location and assign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asons using 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an increased, and reliable, throughput of user applications on the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ing spare CPU cy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ing fault tolera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age access to powerful system, et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sic architecture of RMS: client-server 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ervices provided by R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 Mig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 resource has become too heavily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ult tolerant concer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point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cavenging Idle Cyc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0% to 90% of the time most workstations are id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ult Toler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nimization of Impact on Us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ultiple Application Que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Eras of Computing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7" name="nt" descr=""/>
          <p:cNvPicPr/>
          <p:nvPr/>
        </p:nvPicPr>
        <p:blipFill>
          <a:blip r:embed="rId1"/>
          <a:srcRect l="13202" t="3000" r="13202" b="4998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me Popular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esource Management Syst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523880"/>
          <a:ext cx="8686800" cy="23144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rcial Systems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S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latform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enias.de/products/codine/tech_desc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asy-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tc.cornell.edu/UserDoc/SP/LL12/Easy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Q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ray.com/products/software/nqe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28600" y="3886200"/>
          <a:ext cx="8686800" cy="2733840"/>
        </p:xfrm>
        <a:graphic>
          <a:graphicData uri="http://schemas.openxmlformats.org/drawingml/2006/table">
            <a:tbl>
              <a:tblPr/>
              <a:tblGrid>
                <a:gridCol w="1600200"/>
                <a:gridCol w="7086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ublic Domain System - U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condo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N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gnqs.org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Q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scri.fsu.edu/~pasko/dqs.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gost.isi.edu/gost-group/products/pr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pbs.mrj.com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ads (PCs, SMPs, NOW..)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mult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simultaneously utilize all the available process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uniprocessor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utilize the system resources effectiv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threaded applications offer quicker response to user input and run fa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tentially portable, as there exists an IEEE standar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for POSIX threads interface (pthread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vely used in developing both application and system soft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Systems (MPI and 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efficient parallel programs to be written for distributed memory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ost popular high-level message-passing systems – PVM &amp;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an environment &amp; a message-passing libr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message passing specification, designed to be standard          for distributed memory parallel computing using explicit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 to establish a practical, portable, efficient, &amp; flexible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, application developers prefer MPI, as it is fast becoming the de facto standard for message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istributed Shared Memory (DSM) Syste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ssage-pa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, widely used, programming paradigm on distributed memory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lex &amp; difficult to progra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memory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fer a simple and general programming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t suffer from scala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M on distributed memory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ternative cost-effective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ually built as a separate layer on top of the comm interfa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e full advantage of the application characteristics: virtual pages, objects, &amp; language types are units of shar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adMarks, Lin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 D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etter performance, no burden on user &amp; SW layers, fine granularity of sharing, extensions of the cache coherence scheme, &amp; increased HW complexit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SH, Merl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Debuggers and Profil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PDF (High Performance Debugging Forum) as Parallel Tools Consortium project in 199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ed a HPD version specification, which defines the functionality, semantics, and syntax for a commercial-line parallel debugg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Vie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mercial product from Dolphin Interconnect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nly widely available GUI-based parallel debugger                      that supports multiple HPC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used in homogeneous environments, where each process       of the parallel application being debugged must be running          under the same version of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unctionality of Parallel Debug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2280" y="1563840"/>
            <a:ext cx="88394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aging multiple processes and multiple threads within a proces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each process in its own wind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source code, stack trace, and stack frame for one or more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ving into objects, subroutines, and func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tting both source-level and machine-level break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haring breakpoints between groups of process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ng watch and evaluation poi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playing arrays and its slic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nipulating code variable and constan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formance Analysis Tool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a programmer to understand the performance characteristics of an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yze &amp; locate parts of an application that exhibit poor performance and create program bottlene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jor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eans of inserting instrumentation calls to the performance monitoring routines into the user’s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run-time performance library that consists of a set of monitoring rout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t of tools for processing and displaying the performance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sue with performance monitoring to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usiveness of the tracing calls and their impact on the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mentation affects the performance characteristics of the parallel application and thus provides a false view of its performance behav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erformance Analysi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Visualization Tool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1523880"/>
          <a:ext cx="8839440" cy="5004000"/>
        </p:xfrm>
        <a:graphic>
          <a:graphicData uri="http://schemas.openxmlformats.org/drawingml/2006/table">
            <a:tbl>
              <a:tblPr/>
              <a:tblGrid>
                <a:gridCol w="1371600"/>
                <a:gridCol w="2895840"/>
                <a:gridCol w="457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up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rumentation, monitoring library,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science.nas.nasa.gov/Software/AI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gging library and snapshot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mcs.anl.gov/mpi/mp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dy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ynamic instrumentation running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s.wisc.edu/parady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vPa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grated instrumentor, monitoring library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-pablo.cs.uiuc.edu/Projects/Pablo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mp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ing library performance visualiz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de/pages/vampir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imen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ormance prediction for message passing progra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pallas.com/pages/dimema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ara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gram visualization and analy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ww.cepba.upc.es/para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gramming Environments and Tool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 Administration Tool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erkeley N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&amp; store data in a relational D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Java applet to allow users to monitor a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MILE (Scalable Multicomputer Implementation using Low-cost Equipme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ed K-C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 of compute nodes, a management node,  &amp; a client that can control and monitor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-CAP uses a Java applet to connect to the management node through a predefined URL address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M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rehensive environment for monitoring large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client-server techniques to provide transparent access to all nodes to be monito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mon-server &amp; parmon-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169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ed of more Computing Power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rand Challenge Appl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073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Solving technology problems using computer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modeling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simulation</a:t>
            </a:r>
            <a:r>
              <a:rPr b="0" lang="en-US" sz="35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3500" spc="-1" strike="noStrike">
                <a:solidFill>
                  <a:srgbClr val="ff0000"/>
                </a:solidFill>
                <a:latin typeface="Times New Roman"/>
              </a:rPr>
              <a:t>analysis</a:t>
            </a:r>
            <a:endParaRPr b="0" lang="en-US" sz="35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00080" y="2751120"/>
            <a:ext cx="1566720" cy="14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3080" y="4843440"/>
            <a:ext cx="2813040" cy="1212840"/>
            <a:chOff x="73080" y="4843440"/>
            <a:chExt cx="2813040" cy="1212840"/>
          </a:xfrm>
        </p:grpSpPr>
        <p:sp>
          <p:nvSpPr>
            <p:cNvPr id="352" name=""/>
            <p:cNvSpPr/>
            <p:nvPr/>
          </p:nvSpPr>
          <p:spPr>
            <a:xfrm>
              <a:off x="73080" y="4843440"/>
              <a:ext cx="2813040" cy="121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02240" y="4887360"/>
              <a:ext cx="2766240" cy="1011960"/>
              <a:chOff x="102240" y="4887360"/>
              <a:chExt cx="2766240" cy="101196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826200" y="4887360"/>
                <a:ext cx="1897920" cy="397440"/>
                <a:chOff x="826200" y="4887360"/>
                <a:chExt cx="1897920" cy="39744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1044000" y="4928760"/>
                  <a:ext cx="1013760" cy="350640"/>
                  <a:chOff x="1044000" y="4928760"/>
                  <a:chExt cx="1013760" cy="3506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1186920" y="4942080"/>
                    <a:ext cx="645480" cy="301320"/>
                    <a:chOff x="1186920" y="4942080"/>
                    <a:chExt cx="645480" cy="30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721160" y="4942080"/>
                      <a:ext cx="111240" cy="24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186920" y="5079240"/>
                      <a:ext cx="102240" cy="16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>
                    <a:off x="1044000" y="4928760"/>
                    <a:ext cx="101376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826200" y="4887360"/>
                  <a:ext cx="1897920" cy="39744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104040" y="5275080"/>
                <a:ext cx="2566800" cy="6242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02240" y="5015880"/>
                <a:ext cx="2766240" cy="792360"/>
                <a:chOff x="102240" y="5015880"/>
                <a:chExt cx="2766240" cy="79236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2706840" y="5272200"/>
                  <a:ext cx="161640" cy="444960"/>
                  <a:chOff x="2706840" y="5272200"/>
                  <a:chExt cx="161640" cy="444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795760" y="5367600"/>
                    <a:ext cx="58680" cy="72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795760" y="5272200"/>
                    <a:ext cx="58680" cy="30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795760" y="5331960"/>
                    <a:ext cx="58680" cy="6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738160" y="5306760"/>
                    <a:ext cx="11772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2706840" y="5674320"/>
                    <a:ext cx="161640" cy="7200"/>
                    <a:chOff x="2706840" y="5674320"/>
                    <a:chExt cx="161640" cy="720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2706840" y="567432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2855160" y="567432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2706840" y="5709960"/>
                    <a:ext cx="161640" cy="7200"/>
                    <a:chOff x="2706840" y="5709960"/>
                    <a:chExt cx="161640" cy="720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2706840" y="5709960"/>
                      <a:ext cx="15444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855160" y="5709960"/>
                      <a:ext cx="1332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2706840" y="5638680"/>
                    <a:ext cx="161640" cy="6120"/>
                    <a:chOff x="2706840" y="5638680"/>
                    <a:chExt cx="161640" cy="61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2706840" y="5638680"/>
                      <a:ext cx="15444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855160" y="5638680"/>
                      <a:ext cx="1332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7" name=""/>
                <p:cNvSpPr/>
                <p:nvPr/>
              </p:nvSpPr>
              <p:spPr>
                <a:xfrm>
                  <a:off x="102240" y="5149440"/>
                  <a:ext cx="2753280" cy="65880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193040" y="5204520"/>
                  <a:ext cx="555480" cy="59148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1263600" y="5015880"/>
                  <a:ext cx="932040" cy="672840"/>
                  <a:chOff x="1263600" y="5015880"/>
                  <a:chExt cx="932040" cy="6728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2094480" y="5015880"/>
                    <a:ext cx="101160" cy="831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66120" y="5047560"/>
                    <a:ext cx="10080" cy="14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1263600" y="5284440"/>
                    <a:ext cx="587880" cy="404280"/>
                    <a:chOff x="1263600" y="5284440"/>
                    <a:chExt cx="587880" cy="4042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1263600" y="5557680"/>
                      <a:ext cx="58788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1269360" y="5284440"/>
                      <a:ext cx="58176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1269360" y="5374800"/>
                      <a:ext cx="58176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1263600" y="5459760"/>
                      <a:ext cx="5878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1263600" y="5526000"/>
                      <a:ext cx="58788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1c1c1c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88" name=""/>
            <p:cNvGrpSpPr/>
            <p:nvPr/>
          </p:nvGrpSpPr>
          <p:grpSpPr>
            <a:xfrm>
              <a:off x="555480" y="5320800"/>
              <a:ext cx="429480" cy="680040"/>
              <a:chOff x="555480" y="5320800"/>
              <a:chExt cx="429480" cy="680040"/>
            </a:xfrm>
          </p:grpSpPr>
          <p:sp>
            <p:nvSpPr>
              <p:cNvPr id="389" name=""/>
              <p:cNvSpPr/>
              <p:nvPr/>
            </p:nvSpPr>
            <p:spPr>
              <a:xfrm>
                <a:off x="55548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6120" y="5767560"/>
                <a:ext cx="77040" cy="14976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9000" y="5411520"/>
                <a:ext cx="78120" cy="14832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91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32320" y="5600520"/>
                <a:ext cx="93600" cy="12024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40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714600" y="5566320"/>
                <a:ext cx="112680" cy="179280"/>
                <a:chOff x="714600" y="5566320"/>
                <a:chExt cx="112680" cy="1792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4600" y="5566320"/>
                  <a:ext cx="11268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40880" y="5605560"/>
                  <a:ext cx="6264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2193120" y="5320800"/>
              <a:ext cx="429480" cy="680040"/>
              <a:chOff x="2193120" y="5320800"/>
              <a:chExt cx="429480" cy="680040"/>
            </a:xfrm>
          </p:grpSpPr>
          <p:sp>
            <p:nvSpPr>
              <p:cNvPr id="399" name=""/>
              <p:cNvSpPr/>
              <p:nvPr/>
            </p:nvSpPr>
            <p:spPr>
              <a:xfrm>
                <a:off x="2193120" y="5320800"/>
                <a:ext cx="429480" cy="68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63400" y="5767560"/>
                <a:ext cx="76320" cy="14976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65560" y="5411520"/>
                <a:ext cx="78840" cy="14832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4604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69600" y="5600520"/>
                <a:ext cx="94320" cy="12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55040" y="5411520"/>
                <a:ext cx="308880" cy="488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2351520" y="5566320"/>
                <a:ext cx="113760" cy="179280"/>
                <a:chOff x="2351520" y="5566320"/>
                <a:chExt cx="113760" cy="179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351520" y="5566320"/>
                  <a:ext cx="113760" cy="1792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78160" y="5605560"/>
                  <a:ext cx="61920" cy="100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408" name=""/>
          <p:cNvGraphicFramePr/>
          <p:nvPr/>
        </p:nvGraphicFramePr>
        <p:xfrm>
          <a:off x="93600" y="2741760"/>
          <a:ext cx="154944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2741760"/>
                    <a:ext cx="1549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75240" y="4327560"/>
            <a:ext cx="1901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6172200"/>
            <a:ext cx="1971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D/CA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16320" y="4273560"/>
            <a:ext cx="1522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erosp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684760" y="2705040"/>
            <a:ext cx="3585240" cy="1906200"/>
            <a:chOff x="5684760" y="2705040"/>
            <a:chExt cx="3585240" cy="1906200"/>
          </a:xfrm>
        </p:grpSpPr>
        <p:sp>
          <p:nvSpPr>
            <p:cNvPr id="414" name=""/>
            <p:cNvSpPr/>
            <p:nvPr/>
          </p:nvSpPr>
          <p:spPr>
            <a:xfrm>
              <a:off x="5684760" y="2740680"/>
              <a:ext cx="1731960" cy="1870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744880" y="2705040"/>
              <a:ext cx="1643040" cy="1815840"/>
              <a:chOff x="5744880" y="2705040"/>
              <a:chExt cx="1643040" cy="1815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962320" y="2705040"/>
                <a:ext cx="1425600" cy="1815840"/>
                <a:chOff x="5962320" y="2705040"/>
                <a:chExt cx="1425600" cy="181584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962320" y="2762280"/>
                  <a:ext cx="1425600" cy="162972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6007680" y="4122720"/>
                  <a:ext cx="117720" cy="264240"/>
                </a:xfrm>
                <a:prstGeom prst="line">
                  <a:avLst/>
                </a:prstGeom>
                <a:ln w="255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6806520" y="2858400"/>
                  <a:ext cx="12960" cy="1008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25400" y="4379400"/>
                  <a:ext cx="832680" cy="14148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6883200" y="2705040"/>
                  <a:ext cx="16200" cy="1094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44880" y="2874600"/>
                <a:ext cx="1482840" cy="1375200"/>
                <a:chOff x="5744880" y="2874600"/>
                <a:chExt cx="1482840" cy="13752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44880" y="2874600"/>
                  <a:ext cx="1482840" cy="13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5744880" y="3017880"/>
                  <a:ext cx="1379880" cy="1020960"/>
                  <a:chOff x="5744880" y="3017880"/>
                  <a:chExt cx="1379880" cy="102096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5939280" y="3391560"/>
                    <a:ext cx="18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760" bIns="-32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965560" y="34192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7440" bIns="-37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042240" y="3383280"/>
                    <a:ext cx="52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440" bIns="-1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744880" y="3417480"/>
                    <a:ext cx="44568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6776640" y="3552840"/>
                    <a:ext cx="1656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440" bIns="-19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6692040" y="3663720"/>
                    <a:ext cx="6696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6825960" y="3698280"/>
                    <a:ext cx="1155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046280" y="3874320"/>
                    <a:ext cx="784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883480" y="3244680"/>
                    <a:ext cx="39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4760" bIns="147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870520" y="326412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4480" bIns="-24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839560" y="3228120"/>
                    <a:ext cx="2545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947200" y="3017880"/>
                    <a:ext cx="10778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799680" y="3308040"/>
                    <a:ext cx="928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447240" y="3693240"/>
                    <a:ext cx="176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1520" bIns="-1152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589080" y="3727440"/>
                    <a:ext cx="21708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2480" bIns="4248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762240" y="3797640"/>
                    <a:ext cx="23508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948360" y="4013280"/>
                    <a:ext cx="18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9800" bIns="-19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33680" y="3781440"/>
                    <a:ext cx="262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3" name=""/>
            <p:cNvSpPr/>
            <p:nvPr/>
          </p:nvSpPr>
          <p:spPr>
            <a:xfrm>
              <a:off x="7569360" y="2762280"/>
              <a:ext cx="1700640" cy="12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anchor="t">
              <a:spAutoFit/>
            </a:bodyPr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Geographi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2943360" y="2862360"/>
          <a:ext cx="2533680" cy="132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43360" y="2862360"/>
                    <a:ext cx="2533680" cy="132696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  <a:effectLst>
                    <a:outerShdw dist="107932" dir="2700000" blurRad="0" rotWithShape="0">
                      <a:srgbClr val="1c1c1c"/>
                    </a:outerShdw>
                  </a:effectLst>
                </p:spPr>
              </p:pic>
            </p:oleObj>
          </a:graphicData>
        </a:graphic>
      </p:graphicFrame>
      <p:pic>
        <p:nvPicPr>
          <p:cNvPr id="446" name="a8-129" descr=""/>
          <p:cNvPicPr/>
          <p:nvPr/>
        </p:nvPicPr>
        <p:blipFill>
          <a:blip r:embed="rId8"/>
          <a:stretch/>
        </p:blipFill>
        <p:spPr>
          <a:xfrm>
            <a:off x="5857920" y="4989600"/>
            <a:ext cx="3200400" cy="1458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6124680" y="638316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ilitary Appl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8400" y="6269040"/>
            <a:ext cx="22766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t">
            <a:sp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gital Biolog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frog" descr=""/>
          <p:cNvPicPr/>
          <p:nvPr/>
        </p:nvPicPr>
        <p:blipFill>
          <a:blip r:embed="rId9"/>
          <a:stretch/>
        </p:blipFill>
        <p:spPr>
          <a:xfrm>
            <a:off x="5019840" y="407520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450" name="butterfly" descr=""/>
          <p:cNvPicPr/>
          <p:nvPr/>
        </p:nvPicPr>
        <p:blipFill>
          <a:blip r:embed="rId10"/>
          <a:stretch/>
        </p:blipFill>
        <p:spPr>
          <a:xfrm>
            <a:off x="3267000" y="4913280"/>
            <a:ext cx="218124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HumanGenome" descr=""/>
          <p:cNvPicPr/>
          <p:nvPr/>
        </p:nvPicPr>
        <p:blipFill>
          <a:blip r:embed="rId11"/>
          <a:stretch/>
        </p:blipFill>
        <p:spPr>
          <a:xfrm>
            <a:off x="1666800" y="2627280"/>
            <a:ext cx="1763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axonomy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sed on how processors, memory &amp; interconnect are laid ou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assively Parallel Processors (MP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ymmetric Multiprocessors (SMP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ache-Coherent Nonuniform Memory Access (CC-NU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nstrate building of a large-scale parallel computer system using mass produced commercial workstations &amp; the latest commodity switch-based network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ve Messages (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ic communication primitives in Berkeley N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ified remote procedure call that can be implemented efficiently on a wide range of hardw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Layer Unix (GLUn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OS layer designed to provide transparent remote execution, support for interactive parallel &amp; sequential jobs, load balancing, &amp; backward compatibility for existing application bina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im to provide a cluster-wide namespace and uses Network PIDs (NPIDs), and Virtual Node Numbers (VN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 of NOW Syste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5" name="bnow" descr=""/>
          <p:cNvPicPr/>
          <p:nvPr/>
        </p:nvPicPr>
        <p:blipFill>
          <a:blip r:embed="rId1"/>
          <a:srcRect l="0" t="5201" r="0" b="5201"/>
          <a:stretch/>
        </p:blipFill>
        <p:spPr>
          <a:xfrm>
            <a:off x="152280" y="1828800"/>
            <a:ext cx="88012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rkeley Network of Workstations (NOW)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o utilize free resources on idle machines as a paging device for busy mach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le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y machine can be a server when it is idle, or a client when it needs more memory than physically avail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FS: Serverless Network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erverless, distributed file system, which attempt to have low latency, high bandwidth access to file system data by distributing the functionality of the server among the client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unction of locating data in xFS is distributed by having each client responsible for servicing requests on a subset of the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 data is striped across multiple clients to provide high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liver supercomputer performance on a low cost COTS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ide the complexities of a distributed system behind a clean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 addressed by HPV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vering high performance communication to standard, high-level AP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rdinating scheduling and resource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terogene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PVM Layered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62120" y="1523880"/>
            <a:ext cx="7772040" cy="5105160"/>
            <a:chOff x="762120" y="1523880"/>
            <a:chExt cx="7772040" cy="5105160"/>
          </a:xfrm>
        </p:grpSpPr>
        <p:pic>
          <p:nvPicPr>
            <p:cNvPr id="462" name="hpvm" descr=""/>
            <p:cNvPicPr/>
            <p:nvPr/>
          </p:nvPicPr>
          <p:blipFill>
            <a:blip r:embed="rId1"/>
            <a:srcRect l="1039" t="8517" r="1039" b="7038"/>
            <a:stretch/>
          </p:blipFill>
          <p:spPr>
            <a:xfrm>
              <a:off x="762120" y="1523880"/>
              <a:ext cx="77720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44200" y="6450120"/>
              <a:ext cx="760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High Performance Virtual Machine (HPVM) Projec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 Messages (F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high bandwidth &amp; low-latency comm protocol, based on Berkeley 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ins functions for sending long and short messages &amp; for extracting messages from th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and controls the memory hierarc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s reliable and ordered packet delivery as well as control over the scheduling of communication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ally developed on a Cray T3D &amp; a cluster of SPARCstations connected by Myrinet hard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software interface that delivery hardware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level layers interface offer greater functionality, application portability, and ease of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stigate the potential of PC clusters for performing computational task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 to a Pile-of-PCs (PoPC) to describe a loose ensemble or cluster of P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the use of mass-market commodity components, dedicated processors, and the use of a private communication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hieve the best overall system cost/performance ratio for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Beowulf Projec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nde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llection of software too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ource management &amp; support distribute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CP/IP over Ethernet internal to clus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ploy multiple Ethernet networks in parallel to satisfy the internal data transfer bandwidth requi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hieved by ‘channel binding’ techniq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tend the Linux kernel to allow a loose ensemble of nodes to participate in a number of global namesp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Global Process ID (GPID) sche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dependent of external librari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PID-PVM compatible with PVM Task ID format &amp; uses PVM as its signal transpo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istributed OS for a multicomputer, a cluster of computing nodes connected by a high-speed interconn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a single system image, making the cluster appear like a single machine to the user, to applications, and the the netwo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ilt as a globalization layer on top of the existing Solaris kern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esting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tends existing Solaris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rves the existing Solaris ABI/API compli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upport for high avail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C++, IDL, CORBA in the ker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s spring technolo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olaris MC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3" name="solarismc" descr=""/>
          <p:cNvPicPr/>
          <p:nvPr/>
        </p:nvPicPr>
        <p:blipFill>
          <a:blip r:embed="rId1"/>
          <a:srcRect l="1906" t="4165" r="950" b="5559"/>
          <a:stretch/>
        </p:blipFill>
        <p:spPr>
          <a:xfrm>
            <a:off x="762120" y="16002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large parallel processing system with a shared-no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sist of several hundred nodes with a high-speed interconnection network/swit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node consists of a main memory &amp; one or more process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s a separate copy of the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MP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-64 processors tod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-everything archite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processors share all the global resources avail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copy of the OS runs on these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presentative Cluster System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olaris MC: A High Performance Operating System for Cluste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n object-oriented framework for communication between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CORB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remote object method inv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object reference coun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multiple object handl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ngle system image fea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fil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file system, called ProXy File System (PXFS), provides a globalized file system without need for modifying the existing fil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process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ized network and I/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System Comparison Matrix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52280" y="1523880"/>
          <a:ext cx="883944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676160"/>
                <a:gridCol w="2286000"/>
                <a:gridCol w="1584360"/>
                <a:gridCol w="1768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roj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lat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unic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owu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ltiple Ethernet with TCP/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ux and Gre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PI/PVM. Sockets and H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erkeley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and Active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Unix + x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, PVM, MPI, HPF, Split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PV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yrinet with Fast 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T or Linux connection and global resource manager + L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va-fronted, FM, Sockets, Global Arrays, SHEMEM and M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olaris 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based PCs and work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-sup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ris + Globalization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++ and CO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uster of SMPs (CLUMP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usters of multiprocessors (CLUMP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be the supercomputers of the fu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 SMPs with several network interfaces can be connected using high performance network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dvant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 from the high performance, easy-to-use-and program SMP systems with a small number of CP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usters can be set up with moderate effort, resulting in easier administration and better support for data locality inside a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ardware and Software Tren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Network performance increase of tenfold using 100BaseT Ethernet with full duplex suppor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ailability of switched network circuits, including full crossbar switches for proprietary network technologies such as Myri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Workstation performance has improved significant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ment of microprocessor performance has led to the availability of desktop PCs with performance of low-end workstations at significant low cos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gap between supercomputer and commodity-based clusters is closing rapidl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supercomputers are now equipped with COTS components, especially micro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creasing usage of SMP nodes with two to four processo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average number of transistors on a chip is growing by about 4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e clock frequency growth rate is about 30% per annu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cpuPerf" descr=""/>
          <p:cNvPicPr/>
          <p:nvPr/>
        </p:nvPicPr>
        <p:blipFill>
          <a:blip r:embed="rId1"/>
          <a:stretch/>
        </p:blipFill>
        <p:spPr>
          <a:xfrm>
            <a:off x="1038240" y="1447920"/>
            <a:ext cx="7115040" cy="52149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echnology Trend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tages of using COTS-based Cluster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rice/performance when compared with a dedicated parallel supercomput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cremental growth that often matches yearly funding patter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provision of a multipurpos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OFCBLD03" descr=""/>
          <p:cNvPicPr/>
          <p:nvPr/>
        </p:nvPicPr>
        <p:blipFill>
          <a:blip r:embed="rId1"/>
          <a:stretch/>
        </p:blipFill>
        <p:spPr>
          <a:xfrm>
            <a:off x="4664160" y="1757520"/>
            <a:ext cx="1182600" cy="98568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814320" y="4307040"/>
            <a:ext cx="1717560" cy="1179360"/>
            <a:chOff x="814320" y="4307040"/>
            <a:chExt cx="1717560" cy="1179360"/>
          </a:xfrm>
        </p:grpSpPr>
        <p:grpSp>
          <p:nvGrpSpPr>
            <p:cNvPr id="488" name=""/>
            <p:cNvGrpSpPr/>
            <p:nvPr/>
          </p:nvGrpSpPr>
          <p:grpSpPr>
            <a:xfrm>
              <a:off x="1190160" y="5210280"/>
              <a:ext cx="1056240" cy="199800"/>
              <a:chOff x="1190160" y="5210280"/>
              <a:chExt cx="1056240" cy="1998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1190160" y="5210280"/>
                <a:ext cx="1056240" cy="199800"/>
                <a:chOff x="1190160" y="5210280"/>
                <a:chExt cx="1056240" cy="1998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196280" y="5381640"/>
                  <a:ext cx="1040400" cy="28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90160" y="5210280"/>
                  <a:ext cx="1056240" cy="169920"/>
                </a:xfrm>
                <a:custGeom>
                  <a:avLst/>
                  <a:gdLst/>
                  <a:ahLst/>
                  <a:rect l="l" t="t" r="r" b="b"/>
                  <a:pathLst>
                    <a:path w="666" h="107">
                      <a:moveTo>
                        <a:pt x="0" y="106"/>
                      </a:moveTo>
                      <a:lnTo>
                        <a:pt x="665" y="106"/>
                      </a:lnTo>
                      <a:lnTo>
                        <a:pt x="626" y="1"/>
                      </a:lnTo>
                      <a:lnTo>
                        <a:pt x="49" y="0"/>
                      </a:lnTo>
                      <a:lnTo>
                        <a:pt x="0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221480" y="5229360"/>
                  <a:ext cx="988200" cy="128520"/>
                </a:xfrm>
                <a:custGeom>
                  <a:avLst/>
                  <a:gdLst/>
                  <a:ahLst/>
                  <a:rect l="l" t="t" r="r" b="b"/>
                  <a:pathLst>
                    <a:path w="623" h="81">
                      <a:moveTo>
                        <a:pt x="35" y="0"/>
                      </a:moveTo>
                      <a:lnTo>
                        <a:pt x="0" y="80"/>
                      </a:lnTo>
                      <a:lnTo>
                        <a:pt x="622" y="80"/>
                      </a:lnTo>
                      <a:lnTo>
                        <a:pt x="59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304280" y="5226120"/>
                <a:ext cx="831960" cy="39600"/>
                <a:chOff x="1304280" y="5226120"/>
                <a:chExt cx="831960" cy="39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304280" y="5226120"/>
                  <a:ext cx="3600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6" y="0"/>
                      </a:moveTo>
                      <a:lnTo>
                        <a:pt x="22" y="0"/>
                      </a:lnTo>
                      <a:lnTo>
                        <a:pt x="17" y="16"/>
                      </a:lnTo>
                      <a:lnTo>
                        <a:pt x="0" y="16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386360" y="5226120"/>
                  <a:ext cx="131400" cy="23760"/>
                </a:xfrm>
                <a:custGeom>
                  <a:avLst/>
                  <a:gdLst/>
                  <a:ahLst/>
                  <a:rect l="l" t="t" r="r" b="b"/>
                  <a:pathLst>
                    <a:path w="83" h="15">
                      <a:moveTo>
                        <a:pt x="4" y="0"/>
                      </a:moveTo>
                      <a:lnTo>
                        <a:pt x="82" y="0"/>
                      </a:lnTo>
                      <a:lnTo>
                        <a:pt x="79" y="14"/>
                      </a:lnTo>
                      <a:lnTo>
                        <a:pt x="0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53040" y="5226120"/>
                  <a:ext cx="126720" cy="2700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3" y="0"/>
                      </a:moveTo>
                      <a:lnTo>
                        <a:pt x="79" y="0"/>
                      </a:lnTo>
                      <a:lnTo>
                        <a:pt x="7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703520" y="5226120"/>
                  <a:ext cx="129960" cy="27000"/>
                </a:xfrm>
                <a:custGeom>
                  <a:avLst/>
                  <a:gdLst/>
                  <a:ahLst/>
                  <a:rect l="l" t="t" r="r" b="b"/>
                  <a:pathLst>
                    <a:path w="82" h="17">
                      <a:moveTo>
                        <a:pt x="1" y="0"/>
                      </a:moveTo>
                      <a:lnTo>
                        <a:pt x="81" y="0"/>
                      </a:lnTo>
                      <a:lnTo>
                        <a:pt x="81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857600" y="5226120"/>
                  <a:ext cx="112320" cy="28440"/>
                </a:xfrm>
                <a:custGeom>
                  <a:avLst/>
                  <a:gdLst/>
                  <a:ahLst/>
                  <a:rect l="l" t="t" r="r" b="b"/>
                  <a:pathLst>
                    <a:path w="71" h="18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7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998360" y="5241960"/>
                  <a:ext cx="137880" cy="23760"/>
                </a:xfrm>
                <a:custGeom>
                  <a:avLst/>
                  <a:gdLst/>
                  <a:ahLst/>
                  <a:rect l="l" t="t" r="r" b="b"/>
                  <a:pathLst>
                    <a:path w="87" h="15">
                      <a:moveTo>
                        <a:pt x="0" y="0"/>
                      </a:moveTo>
                      <a:lnTo>
                        <a:pt x="78" y="0"/>
                      </a:lnTo>
                      <a:lnTo>
                        <a:pt x="86" y="14"/>
                      </a:lnTo>
                      <a:lnTo>
                        <a:pt x="4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278720" y="5270400"/>
                <a:ext cx="860400" cy="66960"/>
                <a:chOff x="1278720" y="5270400"/>
                <a:chExt cx="860400" cy="669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1354680" y="5273640"/>
                  <a:ext cx="419400" cy="57240"/>
                  <a:chOff x="1354680" y="5273640"/>
                  <a:chExt cx="419400" cy="572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1354680" y="5273640"/>
                    <a:ext cx="39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371600" y="5292720"/>
                    <a:ext cx="402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376640" y="5311800"/>
                    <a:ext cx="348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384560" y="5330880"/>
                    <a:ext cx="36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1278720" y="5281560"/>
                  <a:ext cx="60120" cy="38160"/>
                  <a:chOff x="1278720" y="5281560"/>
                  <a:chExt cx="60120" cy="381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1297440" y="5281560"/>
                    <a:ext cx="28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289520" y="530244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278720" y="5319720"/>
                    <a:ext cx="60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1446840" y="5270400"/>
                  <a:ext cx="381240" cy="61920"/>
                  <a:chOff x="1446840" y="5270400"/>
                  <a:chExt cx="381240" cy="619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1446840" y="5330880"/>
                    <a:ext cx="23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782360" y="5270400"/>
                    <a:ext cx="45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798560" y="5292720"/>
                    <a:ext cx="29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766520" y="5313240"/>
                    <a:ext cx="61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703160" y="5330880"/>
                    <a:ext cx="26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755360" y="5332320"/>
                    <a:ext cx="71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1863360" y="5281560"/>
                  <a:ext cx="109080" cy="52560"/>
                  <a:chOff x="1863360" y="5281560"/>
                  <a:chExt cx="109080" cy="525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1863360" y="5281560"/>
                    <a:ext cx="102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878840" y="5307120"/>
                    <a:ext cx="90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880640" y="533412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2006280" y="5281560"/>
                  <a:ext cx="132840" cy="55800"/>
                  <a:chOff x="2006280" y="5281560"/>
                  <a:chExt cx="132840" cy="55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017080" y="5281560"/>
                    <a:ext cx="97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06280" y="5303880"/>
                    <a:ext cx="77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17080" y="5319720"/>
                    <a:ext cx="70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012400" y="5337360"/>
                    <a:ext cx="91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115360" y="5303880"/>
                    <a:ext cx="17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125080" y="5329440"/>
                    <a:ext cx="14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8" name=""/>
            <p:cNvGrpSpPr/>
            <p:nvPr/>
          </p:nvGrpSpPr>
          <p:grpSpPr>
            <a:xfrm>
              <a:off x="2252880" y="5319720"/>
              <a:ext cx="279000" cy="166680"/>
              <a:chOff x="2252880" y="5319720"/>
              <a:chExt cx="279000" cy="166680"/>
            </a:xfrm>
          </p:grpSpPr>
          <p:sp>
            <p:nvSpPr>
              <p:cNvPr id="529" name=""/>
              <p:cNvSpPr/>
              <p:nvPr/>
            </p:nvSpPr>
            <p:spPr>
              <a:xfrm>
                <a:off x="2252880" y="5319720"/>
                <a:ext cx="279000" cy="111240"/>
              </a:xfrm>
              <a:custGeom>
                <a:avLst/>
                <a:gdLst/>
                <a:ahLst/>
                <a:rect l="l" t="t" r="r" b="b"/>
                <a:pathLst>
                  <a:path w="176" h="70">
                    <a:moveTo>
                      <a:pt x="0" y="0"/>
                    </a:moveTo>
                    <a:lnTo>
                      <a:pt x="33" y="3"/>
                    </a:lnTo>
                    <a:lnTo>
                      <a:pt x="57" y="5"/>
                    </a:lnTo>
                    <a:lnTo>
                      <a:pt x="78" y="8"/>
                    </a:lnTo>
                    <a:lnTo>
                      <a:pt x="100" y="13"/>
                    </a:lnTo>
                    <a:lnTo>
                      <a:pt x="115" y="16"/>
                    </a:lnTo>
                    <a:lnTo>
                      <a:pt x="134" y="21"/>
                    </a:lnTo>
                    <a:lnTo>
                      <a:pt x="144" y="24"/>
                    </a:lnTo>
                    <a:lnTo>
                      <a:pt x="152" y="26"/>
                    </a:lnTo>
                    <a:lnTo>
                      <a:pt x="156" y="28"/>
                    </a:lnTo>
                    <a:lnTo>
                      <a:pt x="160" y="29"/>
                    </a:lnTo>
                    <a:lnTo>
                      <a:pt x="164" y="31"/>
                    </a:lnTo>
                    <a:lnTo>
                      <a:pt x="169" y="34"/>
                    </a:lnTo>
                    <a:lnTo>
                      <a:pt x="173" y="37"/>
                    </a:lnTo>
                    <a:lnTo>
                      <a:pt x="175" y="41"/>
                    </a:lnTo>
                    <a:lnTo>
                      <a:pt x="175" y="44"/>
                    </a:lnTo>
                    <a:lnTo>
                      <a:pt x="174" y="48"/>
                    </a:lnTo>
                    <a:lnTo>
                      <a:pt x="173" y="53"/>
                    </a:lnTo>
                    <a:lnTo>
                      <a:pt x="171" y="57"/>
                    </a:lnTo>
                    <a:lnTo>
                      <a:pt x="168" y="60"/>
                    </a:lnTo>
                    <a:lnTo>
                      <a:pt x="164" y="64"/>
                    </a:lnTo>
                    <a:lnTo>
                      <a:pt x="160" y="66"/>
                    </a:lnTo>
                    <a:lnTo>
                      <a:pt x="155" y="67"/>
                    </a:lnTo>
                    <a:lnTo>
                      <a:pt x="150" y="69"/>
                    </a:lnTo>
                    <a:lnTo>
                      <a:pt x="143" y="69"/>
                    </a:lnTo>
                    <a:lnTo>
                      <a:pt x="137" y="68"/>
                    </a:lnTo>
                    <a:lnTo>
                      <a:pt x="127" y="66"/>
                    </a:lnTo>
                  </a:path>
                </a:pathLst>
              </a:custGeom>
              <a:noFill/>
              <a:ln cap="rnd" w="255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2265120" y="5375160"/>
                <a:ext cx="192960" cy="111240"/>
                <a:chOff x="2265120" y="5375160"/>
                <a:chExt cx="192960" cy="111240"/>
              </a:xfrm>
            </p:grpSpPr>
            <p:grpSp>
              <p:nvGrpSpPr>
                <p:cNvPr id="531" name=""/>
                <p:cNvGrpSpPr/>
                <p:nvPr/>
              </p:nvGrpSpPr>
              <p:grpSpPr>
                <a:xfrm>
                  <a:off x="2265120" y="5375160"/>
                  <a:ext cx="192960" cy="111240"/>
                  <a:chOff x="2265120" y="5375160"/>
                  <a:chExt cx="192960" cy="1112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265120" y="5375160"/>
                    <a:ext cx="1188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44">
                        <a:moveTo>
                          <a:pt x="0" y="26"/>
                        </a:moveTo>
                        <a:lnTo>
                          <a:pt x="19" y="0"/>
                        </a:lnTo>
                        <a:lnTo>
                          <a:pt x="74" y="14"/>
                        </a:lnTo>
                        <a:lnTo>
                          <a:pt x="52" y="43"/>
                        </a:lnTo>
                        <a:lnTo>
                          <a:pt x="0" y="26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265120" y="5418360"/>
                    <a:ext cx="8388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3">
                        <a:moveTo>
                          <a:pt x="0" y="0"/>
                        </a:moveTo>
                        <a:lnTo>
                          <a:pt x="0" y="23"/>
                        </a:lnTo>
                        <a:lnTo>
                          <a:pt x="1" y="23"/>
                        </a:lnTo>
                        <a:lnTo>
                          <a:pt x="52" y="42"/>
                        </a:lnTo>
                        <a:lnTo>
                          <a:pt x="52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350440" y="5400720"/>
                    <a:ext cx="1076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29"/>
                        </a:moveTo>
                        <a:lnTo>
                          <a:pt x="21" y="0"/>
                        </a:lnTo>
                        <a:lnTo>
                          <a:pt x="67" y="8"/>
                        </a:lnTo>
                        <a:lnTo>
                          <a:pt x="67" y="29"/>
                        </a:lnTo>
                        <a:lnTo>
                          <a:pt x="0" y="5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296440" y="5375160"/>
                    <a:ext cx="16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0" y="0"/>
                        </a:moveTo>
                        <a:lnTo>
                          <a:pt x="51" y="5"/>
                        </a:lnTo>
                        <a:lnTo>
                          <a:pt x="101" y="21"/>
                        </a:lnTo>
                        <a:lnTo>
                          <a:pt x="55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2271240" y="5403600"/>
                  <a:ext cx="178560" cy="58680"/>
                  <a:chOff x="2271240" y="5403600"/>
                  <a:chExt cx="178560" cy="5868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2271240" y="5434200"/>
                    <a:ext cx="72360" cy="158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V="1">
                    <a:off x="2358000" y="5403600"/>
                    <a:ext cx="20160" cy="586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392920" y="5410080"/>
                    <a:ext cx="56880" cy="6480"/>
                  </a:xfrm>
                  <a:prstGeom prst="line">
                    <a:avLst/>
                  </a:prstGeom>
                  <a:ln w="12600">
                    <a:solidFill>
                      <a:srgbClr val="606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0" name=""/>
            <p:cNvGrpSpPr/>
            <p:nvPr/>
          </p:nvGrpSpPr>
          <p:grpSpPr>
            <a:xfrm>
              <a:off x="1432800" y="5106960"/>
              <a:ext cx="559800" cy="96840"/>
              <a:chOff x="1432800" y="5106960"/>
              <a:chExt cx="559800" cy="96840"/>
            </a:xfrm>
          </p:grpSpPr>
          <p:sp>
            <p:nvSpPr>
              <p:cNvPr id="541" name=""/>
              <p:cNvSpPr/>
              <p:nvPr/>
            </p:nvSpPr>
            <p:spPr>
              <a:xfrm>
                <a:off x="1432800" y="5106960"/>
                <a:ext cx="559800" cy="54000"/>
              </a:xfrm>
              <a:custGeom>
                <a:avLst/>
                <a:gdLst/>
                <a:ahLst/>
                <a:rect l="l" t="t" r="r" b="b"/>
                <a:pathLst>
                  <a:path w="353" h="34">
                    <a:moveTo>
                      <a:pt x="0" y="33"/>
                    </a:moveTo>
                    <a:lnTo>
                      <a:pt x="352" y="33"/>
                    </a:lnTo>
                    <a:lnTo>
                      <a:pt x="332" y="0"/>
                    </a:lnTo>
                    <a:lnTo>
                      <a:pt x="21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37120" y="5164200"/>
                <a:ext cx="546840" cy="39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1562760" y="5060880"/>
              <a:ext cx="299880" cy="100080"/>
            </a:xfrm>
            <a:custGeom>
              <a:avLst/>
              <a:gdLst/>
              <a:ahLst/>
              <a:rect l="l" t="t" r="r" b="b"/>
              <a:pathLst>
                <a:path w="189" h="63">
                  <a:moveTo>
                    <a:pt x="0" y="35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36"/>
                  </a:lnTo>
                  <a:lnTo>
                    <a:pt x="187" y="39"/>
                  </a:lnTo>
                  <a:lnTo>
                    <a:pt x="185" y="42"/>
                  </a:lnTo>
                  <a:lnTo>
                    <a:pt x="182" y="45"/>
                  </a:lnTo>
                  <a:lnTo>
                    <a:pt x="178" y="47"/>
                  </a:lnTo>
                  <a:lnTo>
                    <a:pt x="172" y="50"/>
                  </a:lnTo>
                  <a:lnTo>
                    <a:pt x="167" y="52"/>
                  </a:lnTo>
                  <a:lnTo>
                    <a:pt x="161" y="54"/>
                  </a:lnTo>
                  <a:lnTo>
                    <a:pt x="154" y="56"/>
                  </a:lnTo>
                  <a:lnTo>
                    <a:pt x="148" y="57"/>
                  </a:lnTo>
                  <a:lnTo>
                    <a:pt x="138" y="59"/>
                  </a:lnTo>
                  <a:lnTo>
                    <a:pt x="130" y="60"/>
                  </a:lnTo>
                  <a:lnTo>
                    <a:pt x="122" y="61"/>
                  </a:lnTo>
                  <a:lnTo>
                    <a:pt x="113" y="62"/>
                  </a:lnTo>
                  <a:lnTo>
                    <a:pt x="102" y="62"/>
                  </a:lnTo>
                  <a:lnTo>
                    <a:pt x="89" y="62"/>
                  </a:lnTo>
                  <a:lnTo>
                    <a:pt x="77" y="62"/>
                  </a:lnTo>
                  <a:lnTo>
                    <a:pt x="66" y="61"/>
                  </a:lnTo>
                  <a:lnTo>
                    <a:pt x="55" y="60"/>
                  </a:lnTo>
                  <a:lnTo>
                    <a:pt x="46" y="59"/>
                  </a:lnTo>
                  <a:lnTo>
                    <a:pt x="39" y="57"/>
                  </a:lnTo>
                  <a:lnTo>
                    <a:pt x="31" y="55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2" y="48"/>
                  </a:lnTo>
                  <a:lnTo>
                    <a:pt x="8" y="46"/>
                  </a:lnTo>
                  <a:lnTo>
                    <a:pt x="5" y="43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69080" y="4307040"/>
              <a:ext cx="682200" cy="766800"/>
            </a:xfrm>
            <a:custGeom>
              <a:avLst/>
              <a:gdLst>
                <a:gd name="textAreaLeft" fmla="*/ 3960 w 682200"/>
                <a:gd name="textAreaRight" fmla="*/ 678240 w 682200"/>
                <a:gd name="textAreaTop" fmla="*/ 3960 h 766800"/>
                <a:gd name="textAreaBottom" fmla="*/ 762840 h 766800"/>
              </a:gdLst>
              <a:ahLst/>
              <a:rect l="textAreaLeft" t="textAreaTop" r="textAreaRight" b="textAreaBottom"/>
              <a:pathLst>
                <a:path w="21600" h="24277">
                  <a:moveTo>
                    <a:pt x="458" y="0"/>
                  </a:moveTo>
                  <a:arcTo wR="458" hR="458" stAng="16200000" swAng="-5400000"/>
                  <a:lnTo>
                    <a:pt x="0" y="23819"/>
                  </a:lnTo>
                  <a:arcTo wR="458" hR="458" stAng="10800000" swAng="-5400000"/>
                  <a:lnTo>
                    <a:pt x="21142" y="24277"/>
                  </a:lnTo>
                  <a:arcTo wR="458" hR="458" stAng="5400000" swAng="-5400000"/>
                  <a:lnTo>
                    <a:pt x="21600" y="458"/>
                  </a:lnTo>
                  <a:arcTo wR="458" hR="458" stAng="0" swAng="-5400000"/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16960" y="4367160"/>
              <a:ext cx="597600" cy="636840"/>
            </a:xfrm>
            <a:custGeom>
              <a:avLst/>
              <a:gdLst>
                <a:gd name="textAreaLeft" fmla="*/ 29160 w 597600"/>
                <a:gd name="textAreaRight" fmla="*/ 568440 w 597600"/>
                <a:gd name="textAreaTop" fmla="*/ 29160 h 636840"/>
                <a:gd name="textAreaBottom" fmla="*/ 607680 h 636840"/>
              </a:gdLst>
              <a:ahLst/>
              <a:rect l="textAreaLeft" t="textAreaTop" r="textAreaRight" b="textAreaBottom"/>
              <a:pathLst>
                <a:path w="21600" h="23017">
                  <a:moveTo>
                    <a:pt x="3600" y="0"/>
                  </a:moveTo>
                  <a:arcTo wR="3600" hR="3600" stAng="16200000" swAng="-5400000"/>
                  <a:lnTo>
                    <a:pt x="0" y="19417"/>
                  </a:lnTo>
                  <a:arcTo wR="3600" hR="3600" stAng="10800000" swAng="-5400000"/>
                  <a:lnTo>
                    <a:pt x="18000" y="23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31000" y="5043600"/>
              <a:ext cx="615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91720" y="4449960"/>
              <a:ext cx="191880" cy="26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814320" y="4390920"/>
              <a:ext cx="278640" cy="1051200"/>
              <a:chOff x="814320" y="4390920"/>
              <a:chExt cx="278640" cy="1051200"/>
            </a:xfrm>
          </p:grpSpPr>
          <p:sp>
            <p:nvSpPr>
              <p:cNvPr id="549" name=""/>
              <p:cNvSpPr/>
              <p:nvPr/>
            </p:nvSpPr>
            <p:spPr>
              <a:xfrm>
                <a:off x="887040" y="4392720"/>
                <a:ext cx="205920" cy="1039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14320" y="4390920"/>
                <a:ext cx="68040" cy="1051200"/>
              </a:xfrm>
              <a:custGeom>
                <a:avLst/>
                <a:gdLst/>
                <a:ahLst/>
                <a:rect l="l" t="t" r="r" b="b"/>
                <a:pathLst>
                  <a:path w="43" h="662">
                    <a:moveTo>
                      <a:pt x="42" y="0"/>
                    </a:moveTo>
                    <a:lnTo>
                      <a:pt x="42" y="661"/>
                    </a:lnTo>
                    <a:lnTo>
                      <a:pt x="0" y="598"/>
                    </a:lnTo>
                    <a:lnTo>
                      <a:pt x="0" y="7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869400" y="4415040"/>
              <a:ext cx="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909360" y="5113440"/>
              <a:ext cx="165960" cy="261720"/>
              <a:chOff x="909360" y="5113440"/>
              <a:chExt cx="165960" cy="26172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909360" y="5113440"/>
                <a:ext cx="58320" cy="261720"/>
                <a:chOff x="909360" y="5113440"/>
                <a:chExt cx="58320" cy="26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909360" y="5330880"/>
                  <a:ext cx="5832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09360" y="526248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09360" y="5181480"/>
                  <a:ext cx="5832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909360" y="5113440"/>
                  <a:ext cx="5832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1018440" y="5330880"/>
                <a:ext cx="56880" cy="44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18440" y="526248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18440" y="5181480"/>
                <a:ext cx="56880" cy="32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18440" y="5113440"/>
                <a:ext cx="56880" cy="22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918720" y="4638600"/>
              <a:ext cx="142560" cy="130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09360" y="4861080"/>
              <a:ext cx="158400" cy="193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918720" y="4530960"/>
              <a:ext cx="142560" cy="72720"/>
              <a:chOff x="918720" y="4530960"/>
              <a:chExt cx="142560" cy="72720"/>
            </a:xfrm>
          </p:grpSpPr>
          <p:sp>
            <p:nvSpPr>
              <p:cNvPr id="565" name=""/>
              <p:cNvSpPr/>
              <p:nvPr/>
            </p:nvSpPr>
            <p:spPr>
              <a:xfrm>
                <a:off x="918720" y="4530960"/>
                <a:ext cx="142560" cy="7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923040" y="4541760"/>
                <a:ext cx="13788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23040" y="4575240"/>
                <a:ext cx="137880" cy="11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2220840" y="3081240"/>
            <a:ext cx="798120" cy="1441440"/>
            <a:chOff x="2220840" y="3081240"/>
            <a:chExt cx="798120" cy="1441440"/>
          </a:xfrm>
        </p:grpSpPr>
        <p:sp>
          <p:nvSpPr>
            <p:cNvPr id="569" name=""/>
            <p:cNvSpPr/>
            <p:nvPr/>
          </p:nvSpPr>
          <p:spPr>
            <a:xfrm>
              <a:off x="2220840" y="3081240"/>
              <a:ext cx="792000" cy="136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2266560" y="3549600"/>
              <a:ext cx="703080" cy="846360"/>
              <a:chOff x="2266560" y="3549600"/>
              <a:chExt cx="703080" cy="846360"/>
            </a:xfrm>
          </p:grpSpPr>
          <p:sp>
            <p:nvSpPr>
              <p:cNvPr id="571" name=""/>
              <p:cNvSpPr/>
              <p:nvPr/>
            </p:nvSpPr>
            <p:spPr>
              <a:xfrm>
                <a:off x="2266560" y="3549600"/>
                <a:ext cx="703080" cy="846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120" bIns="331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66560" y="43354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66560" y="42703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66560" y="42037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66560" y="41385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266560" y="407052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266560" y="40053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266560" y="393876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66560" y="38736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266560" y="380700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266560" y="37400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266560" y="367524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66560" y="3608280"/>
                <a:ext cx="70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228760" y="3103560"/>
              <a:ext cx="790200" cy="3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00560" y="3127320"/>
              <a:ext cx="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2600" y="3121200"/>
              <a:ext cx="304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58800"/>
                  <a:tab algn="l" pos="1317600"/>
                  <a:tab algn="l" pos="1976400"/>
                  <a:tab algn="l" pos="2635200"/>
                  <a:tab algn="l" pos="3294000"/>
                  <a:tab algn="l" pos="3952800"/>
                  <a:tab algn="l" pos="4611600"/>
                  <a:tab algn="l" pos="5270400"/>
                  <a:tab algn="l" pos="5929200"/>
                  <a:tab algn="l" pos="6588000"/>
                  <a:tab algn="l" pos="7246800"/>
                  <a:tab algn="l" pos="7905600"/>
                  <a:tab algn="l" pos="8564400"/>
                  <a:tab algn="l" pos="9223200"/>
                  <a:tab algn="l" pos="9882360"/>
                  <a:tab algn="l" pos="10541160"/>
                </a:tabLst>
              </a:pPr>
              <a:r>
                <a:rPr b="1" lang="zh-CN" sz="6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65240" y="3149640"/>
              <a:ext cx="8244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4600" y="3149640"/>
              <a:ext cx="81000" cy="3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1800" bIns="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15880" y="4451400"/>
              <a:ext cx="2556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04840" y="4451400"/>
              <a:ext cx="25200" cy="71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600" rIns="66600" tIns="33120" bIns="33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257640" y="2001960"/>
            <a:ext cx="1217160" cy="1416960"/>
            <a:chOff x="3257640" y="2001960"/>
            <a:chExt cx="1217160" cy="1416960"/>
          </a:xfrm>
        </p:grpSpPr>
        <p:sp>
          <p:nvSpPr>
            <p:cNvPr id="592" name=""/>
            <p:cNvSpPr/>
            <p:nvPr/>
          </p:nvSpPr>
          <p:spPr>
            <a:xfrm>
              <a:off x="3603240" y="2669040"/>
              <a:ext cx="546120" cy="1062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257640" y="3039480"/>
              <a:ext cx="222120" cy="362520"/>
              <a:chOff x="3257640" y="3039480"/>
              <a:chExt cx="222120" cy="362520"/>
            </a:xfrm>
          </p:grpSpPr>
          <p:sp>
            <p:nvSpPr>
              <p:cNvPr id="594" name=""/>
              <p:cNvSpPr/>
              <p:nvPr/>
            </p:nvSpPr>
            <p:spPr>
              <a:xfrm>
                <a:off x="3257640" y="30394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3272040" y="3160080"/>
                <a:ext cx="195120" cy="209520"/>
                <a:chOff x="3272040" y="3160080"/>
                <a:chExt cx="195120" cy="2095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272040" y="3160080"/>
                  <a:ext cx="195120" cy="20952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72040" y="3358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2040" y="3341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2040" y="3323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72040" y="3307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72040" y="3290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2040" y="3272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72040" y="3255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2040" y="3239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72040" y="32220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2040" y="3204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72040" y="3188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72040" y="3171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3260880" y="304596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35400" y="30520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374280" y="3041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43400" y="305712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65560" y="305712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8464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54560" y="339408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603240" y="3045960"/>
              <a:ext cx="222120" cy="362160"/>
              <a:chOff x="3603240" y="3045960"/>
              <a:chExt cx="222120" cy="36216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3240" y="3045960"/>
                <a:ext cx="22212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617280" y="3165120"/>
                <a:ext cx="193320" cy="209520"/>
                <a:chOff x="3617280" y="3165120"/>
                <a:chExt cx="193320" cy="209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617280" y="3165120"/>
                  <a:ext cx="19332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617280" y="3364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617280" y="3347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617280" y="3330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617280" y="3314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617280" y="3296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617280" y="32792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617280" y="3261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617280" y="3245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617280" y="3227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617280" y="32108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617280" y="31935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7280" y="3177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3606120" y="305208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8064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71952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788640" y="3057120"/>
                <a:ext cx="1728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10800" y="3057120"/>
                <a:ext cx="126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29880" y="340020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795120" y="3400200"/>
                <a:ext cx="900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3910320" y="3045960"/>
              <a:ext cx="223920" cy="362160"/>
              <a:chOff x="3910320" y="3045960"/>
              <a:chExt cx="223920" cy="362160"/>
            </a:xfrm>
          </p:grpSpPr>
          <p:sp>
            <p:nvSpPr>
              <p:cNvPr id="640" name=""/>
              <p:cNvSpPr/>
              <p:nvPr/>
            </p:nvSpPr>
            <p:spPr>
              <a:xfrm>
                <a:off x="3910320" y="3045960"/>
                <a:ext cx="2224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924720" y="3165120"/>
                <a:ext cx="193680" cy="209520"/>
                <a:chOff x="3924720" y="3165120"/>
                <a:chExt cx="193680" cy="2095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924720" y="316512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24720" y="336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24720" y="3347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24720" y="333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24720" y="331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24720" y="3296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24720" y="327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924720" y="3261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924720" y="3245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924720" y="3227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924720" y="3210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924720" y="3193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924720" y="317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3913560" y="3052080"/>
                <a:ext cx="2206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989880" y="3058560"/>
                <a:ext cx="0" cy="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028760" y="3047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96080" y="3057120"/>
                <a:ext cx="1764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918240" y="3057120"/>
                <a:ext cx="14400" cy="11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932640" y="3400200"/>
                <a:ext cx="1116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104000" y="340020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252680" y="3058200"/>
              <a:ext cx="222120" cy="360720"/>
              <a:chOff x="4252680" y="3058200"/>
              <a:chExt cx="222120" cy="360720"/>
            </a:xfrm>
          </p:grpSpPr>
          <p:sp>
            <p:nvSpPr>
              <p:cNvPr id="663" name=""/>
              <p:cNvSpPr/>
              <p:nvPr/>
            </p:nvSpPr>
            <p:spPr>
              <a:xfrm>
                <a:off x="4252680" y="3058200"/>
                <a:ext cx="220680" cy="34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4265280" y="3178440"/>
                <a:ext cx="193680" cy="208800"/>
                <a:chOff x="4265280" y="3178440"/>
                <a:chExt cx="193680" cy="2088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265280" y="3178440"/>
                  <a:ext cx="193680" cy="2088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265280" y="3376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265280" y="3358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265280" y="3341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265280" y="3325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265280" y="3307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65280" y="3290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265280" y="3274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265280" y="32558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265280" y="3240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265280" y="3222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265280" y="3206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265280" y="3189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4255920" y="306396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329000" y="3070440"/>
                <a:ext cx="0" cy="56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369320" y="3059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36640" y="3075120"/>
                <a:ext cx="190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59160" y="3075120"/>
                <a:ext cx="158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7968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49600" y="341136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 flipH="1">
              <a:off x="3306960" y="2743200"/>
              <a:ext cx="32400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677040" y="2766240"/>
              <a:ext cx="7524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41280" y="2766240"/>
              <a:ext cx="10620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47840" y="2743200"/>
              <a:ext cx="29628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257640" y="2018880"/>
              <a:ext cx="222120" cy="362160"/>
              <a:chOff x="3257640" y="2018880"/>
              <a:chExt cx="222120" cy="362160"/>
            </a:xfrm>
          </p:grpSpPr>
          <p:sp>
            <p:nvSpPr>
              <p:cNvPr id="690" name=""/>
              <p:cNvSpPr/>
              <p:nvPr/>
            </p:nvSpPr>
            <p:spPr>
              <a:xfrm>
                <a:off x="3257640" y="2018880"/>
                <a:ext cx="220680" cy="34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3272040" y="2139480"/>
                <a:ext cx="195120" cy="208080"/>
                <a:chOff x="3272040" y="2139480"/>
                <a:chExt cx="195120" cy="2080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3272040" y="2139480"/>
                  <a:ext cx="195120" cy="2080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72040" y="23378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272040" y="2320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272040" y="23029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272040" y="22870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272040" y="22694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272040" y="2252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272040" y="2234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72040" y="22186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272040" y="2199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272040" y="218376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272040" y="2166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272040" y="2150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>
                <a:off x="3260880" y="2025000"/>
                <a:ext cx="218880" cy="76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35400" y="203148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74280" y="20203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43400" y="2030040"/>
                <a:ext cx="1728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65560" y="2030040"/>
                <a:ext cx="14400" cy="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8464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454560" y="2373120"/>
                <a:ext cx="1440" cy="7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603240" y="2012760"/>
              <a:ext cx="222120" cy="362160"/>
              <a:chOff x="3603240" y="2012760"/>
              <a:chExt cx="222120" cy="362160"/>
            </a:xfrm>
          </p:grpSpPr>
          <p:sp>
            <p:nvSpPr>
              <p:cNvPr id="713" name=""/>
              <p:cNvSpPr/>
              <p:nvPr/>
            </p:nvSpPr>
            <p:spPr>
              <a:xfrm>
                <a:off x="3603240" y="2012760"/>
                <a:ext cx="22212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3617280" y="2133360"/>
                <a:ext cx="193320" cy="209520"/>
                <a:chOff x="3617280" y="2133360"/>
                <a:chExt cx="193320" cy="2095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617280" y="2133360"/>
                  <a:ext cx="193320" cy="20952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17280" y="2331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17280" y="2314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17280" y="22968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17280" y="2280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17280" y="2261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617280" y="224604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17280" y="2228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17280" y="22129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17280" y="2195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17280" y="2178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17280" y="2162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617280" y="2144520"/>
                  <a:ext cx="19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606120" y="2019240"/>
                <a:ext cx="2188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8064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1952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88640" y="2030400"/>
                <a:ext cx="1728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610800" y="2030400"/>
                <a:ext cx="126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29880" y="2366640"/>
                <a:ext cx="144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95120" y="2366640"/>
                <a:ext cx="900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3910320" y="2012760"/>
              <a:ext cx="223920" cy="362160"/>
              <a:chOff x="3910320" y="2012760"/>
              <a:chExt cx="223920" cy="362160"/>
            </a:xfrm>
          </p:grpSpPr>
          <p:sp>
            <p:nvSpPr>
              <p:cNvPr id="736" name=""/>
              <p:cNvSpPr/>
              <p:nvPr/>
            </p:nvSpPr>
            <p:spPr>
              <a:xfrm>
                <a:off x="3910320" y="2012760"/>
                <a:ext cx="222480" cy="341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3924720" y="2133360"/>
                <a:ext cx="193680" cy="209520"/>
                <a:chOff x="3924720" y="2133360"/>
                <a:chExt cx="193680" cy="20952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924720" y="2133360"/>
                  <a:ext cx="193680" cy="20952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924720" y="2331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924720" y="2314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924720" y="2296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924720" y="2280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924720" y="226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24720" y="2246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924720" y="2228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924720" y="2212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924720" y="219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924720" y="2178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24720" y="2162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924720" y="2144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3913560" y="2019240"/>
                <a:ext cx="220680" cy="77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989880" y="2025360"/>
                <a:ext cx="0" cy="57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028760" y="201456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096080" y="2030400"/>
                <a:ext cx="1764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18240" y="2030400"/>
                <a:ext cx="14400" cy="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32640" y="2366640"/>
                <a:ext cx="1116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104000" y="2366640"/>
                <a:ext cx="9720" cy="8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252680" y="2001960"/>
              <a:ext cx="222120" cy="360720"/>
              <a:chOff x="4252680" y="2001960"/>
              <a:chExt cx="222120" cy="360720"/>
            </a:xfrm>
          </p:grpSpPr>
          <p:sp>
            <p:nvSpPr>
              <p:cNvPr id="759" name=""/>
              <p:cNvSpPr/>
              <p:nvPr/>
            </p:nvSpPr>
            <p:spPr>
              <a:xfrm>
                <a:off x="4252680" y="2001960"/>
                <a:ext cx="220680" cy="340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4265280" y="2122200"/>
                <a:ext cx="193680" cy="208800"/>
                <a:chOff x="4265280" y="2122200"/>
                <a:chExt cx="193680" cy="2088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265280" y="2122200"/>
                  <a:ext cx="193680" cy="2088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265280" y="23202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265280" y="2302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265280" y="2285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265280" y="2269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265280" y="2251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265280" y="2234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265280" y="221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265280" y="2199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265280" y="2183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65280" y="2166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65280" y="2150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65280" y="213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"/>
              <p:cNvSpPr/>
              <p:nvPr/>
            </p:nvSpPr>
            <p:spPr>
              <a:xfrm>
                <a:off x="4255920" y="2008080"/>
                <a:ext cx="218880" cy="75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329000" y="2014560"/>
                <a:ext cx="0" cy="5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69320" y="20034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zh-CN" sz="2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436640" y="2019240"/>
                <a:ext cx="1908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259160" y="2019240"/>
                <a:ext cx="15840" cy="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7968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449600" y="2355120"/>
                <a:ext cx="1440" cy="7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 flipH="1" flipV="1">
              <a:off x="3306960" y="2372400"/>
              <a:ext cx="311760" cy="30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3677040" y="2372040"/>
              <a:ext cx="752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941280" y="2372040"/>
              <a:ext cx="3204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122000" y="2372040"/>
              <a:ext cx="22212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997600" y="816120"/>
            <a:ext cx="1406160" cy="1778400"/>
            <a:chOff x="5997600" y="816120"/>
            <a:chExt cx="1406160" cy="1778400"/>
          </a:xfrm>
        </p:grpSpPr>
        <p:pic>
          <p:nvPicPr>
            <p:cNvPr id="786" name="" descr=""/>
            <p:cNvPicPr/>
            <p:nvPr/>
          </p:nvPicPr>
          <p:blipFill>
            <a:blip r:embed="rId14"/>
            <a:stretch/>
          </p:blipFill>
          <p:spPr>
            <a:xfrm>
              <a:off x="6196320" y="1249200"/>
              <a:ext cx="1034640" cy="9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"/>
            <p:cNvGrpSpPr/>
            <p:nvPr/>
          </p:nvGrpSpPr>
          <p:grpSpPr>
            <a:xfrm>
              <a:off x="6606360" y="816120"/>
              <a:ext cx="257400" cy="399240"/>
              <a:chOff x="6606360" y="816120"/>
              <a:chExt cx="257400" cy="399240"/>
            </a:xfrm>
          </p:grpSpPr>
          <p:sp>
            <p:nvSpPr>
              <p:cNvPr id="788" name=""/>
              <p:cNvSpPr/>
              <p:nvPr/>
            </p:nvSpPr>
            <p:spPr>
              <a:xfrm>
                <a:off x="6682320" y="990360"/>
                <a:ext cx="11232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6606360" y="1049760"/>
                <a:ext cx="257400" cy="165600"/>
                <a:chOff x="6606360" y="1049760"/>
                <a:chExt cx="257400" cy="165600"/>
              </a:xfrm>
            </p:grpSpPr>
            <p:sp>
              <p:nvSpPr>
                <p:cNvPr id="790" name=""/>
                <p:cNvSpPr/>
                <p:nvPr/>
              </p:nvSpPr>
              <p:spPr>
                <a:xfrm flipV="1">
                  <a:off x="6621840" y="1050840"/>
                  <a:ext cx="4932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6701760" y="1050840"/>
                  <a:ext cx="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6770880" y="1049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606360" y="115308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688440" y="1147680"/>
                  <a:ext cx="252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756120" y="1146240"/>
                  <a:ext cx="2268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843240" y="115308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flipV="1">
                  <a:off x="6789600" y="1050840"/>
                  <a:ext cx="723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606360" y="816120"/>
                <a:ext cx="257400" cy="154080"/>
                <a:chOff x="6606360" y="816120"/>
                <a:chExt cx="257400" cy="15408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621840" y="889560"/>
                  <a:ext cx="4932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701760" y="89820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770880" y="893520"/>
                  <a:ext cx="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606360" y="82188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688440" y="81612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56120" y="819000"/>
                  <a:ext cx="2268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843240" y="82188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6789600" y="889560"/>
                  <a:ext cx="723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7146720" y="1061640"/>
              <a:ext cx="257040" cy="396720"/>
              <a:chOff x="7146720" y="1061640"/>
              <a:chExt cx="257040" cy="396720"/>
            </a:xfrm>
          </p:grpSpPr>
          <p:sp>
            <p:nvSpPr>
              <p:cNvPr id="808" name=""/>
              <p:cNvSpPr/>
              <p:nvPr/>
            </p:nvSpPr>
            <p:spPr>
              <a:xfrm>
                <a:off x="7222680" y="123516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7146720" y="1294200"/>
                <a:ext cx="257040" cy="164160"/>
                <a:chOff x="7146720" y="1294200"/>
                <a:chExt cx="257040" cy="164160"/>
              </a:xfrm>
            </p:grpSpPr>
            <p:sp>
              <p:nvSpPr>
                <p:cNvPr id="810" name=""/>
                <p:cNvSpPr/>
                <p:nvPr/>
              </p:nvSpPr>
              <p:spPr>
                <a:xfrm flipV="1">
                  <a:off x="7162200" y="1294560"/>
                  <a:ext cx="4932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7241760" y="1296000"/>
                  <a:ext cx="0" cy="9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V="1">
                  <a:off x="7308360" y="129420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14672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228800" y="139212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296480" y="1389240"/>
                  <a:ext cx="2160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383240" y="13975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flipV="1">
                  <a:off x="7329600" y="1294560"/>
                  <a:ext cx="7236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7146720" y="1061640"/>
                <a:ext cx="257040" cy="153360"/>
                <a:chOff x="7146720" y="1061640"/>
                <a:chExt cx="257040" cy="15336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7162200" y="113472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241760" y="114192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308360" y="113904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14672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228800" y="106164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296480" y="106452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383240" y="106560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329600" y="113472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7" name=""/>
            <p:cNvGrpSpPr/>
            <p:nvPr/>
          </p:nvGrpSpPr>
          <p:grpSpPr>
            <a:xfrm>
              <a:off x="7146720" y="1942920"/>
              <a:ext cx="257040" cy="397440"/>
              <a:chOff x="7146720" y="1942920"/>
              <a:chExt cx="257040" cy="397440"/>
            </a:xfrm>
          </p:grpSpPr>
          <p:sp>
            <p:nvSpPr>
              <p:cNvPr id="828" name=""/>
              <p:cNvSpPr/>
              <p:nvPr/>
            </p:nvSpPr>
            <p:spPr>
              <a:xfrm>
                <a:off x="7222680" y="2116440"/>
                <a:ext cx="111960" cy="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9" name=""/>
              <p:cNvGrpSpPr/>
              <p:nvPr/>
            </p:nvGrpSpPr>
            <p:grpSpPr>
              <a:xfrm>
                <a:off x="7146720" y="2175480"/>
                <a:ext cx="257040" cy="164880"/>
                <a:chOff x="7146720" y="2175480"/>
                <a:chExt cx="257040" cy="164880"/>
              </a:xfrm>
            </p:grpSpPr>
            <p:sp>
              <p:nvSpPr>
                <p:cNvPr id="830" name=""/>
                <p:cNvSpPr/>
                <p:nvPr/>
              </p:nvSpPr>
              <p:spPr>
                <a:xfrm flipV="1">
                  <a:off x="7162200" y="217692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7241760" y="2176920"/>
                  <a:ext cx="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7308360" y="2175480"/>
                  <a:ext cx="0" cy="9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14672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228800" y="2272680"/>
                  <a:ext cx="2376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296480" y="2271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383240" y="22784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flipV="1">
                  <a:off x="7329600" y="2176920"/>
                  <a:ext cx="7236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7146720" y="1942920"/>
                <a:ext cx="257040" cy="153360"/>
                <a:chOff x="7146720" y="1942920"/>
                <a:chExt cx="257040" cy="1533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162200" y="201600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241760" y="20242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308360" y="2021760"/>
                  <a:ext cx="0" cy="7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14672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228800" y="1942920"/>
                  <a:ext cx="23760" cy="6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296480" y="1945440"/>
                  <a:ext cx="2160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3240" y="19483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7329600" y="201600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7" name=""/>
            <p:cNvGrpSpPr/>
            <p:nvPr/>
          </p:nvGrpSpPr>
          <p:grpSpPr>
            <a:xfrm>
              <a:off x="6615360" y="2195280"/>
              <a:ext cx="255600" cy="399240"/>
              <a:chOff x="6615360" y="2195280"/>
              <a:chExt cx="255600" cy="399240"/>
            </a:xfrm>
          </p:grpSpPr>
          <p:sp>
            <p:nvSpPr>
              <p:cNvPr id="848" name=""/>
              <p:cNvSpPr/>
              <p:nvPr/>
            </p:nvSpPr>
            <p:spPr>
              <a:xfrm>
                <a:off x="6688800" y="2370960"/>
                <a:ext cx="114480" cy="5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615360" y="2428920"/>
                <a:ext cx="255600" cy="165600"/>
                <a:chOff x="6615360" y="2428920"/>
                <a:chExt cx="255600" cy="165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>
                  <a:off x="6629760" y="243000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6710400" y="243144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6777000" y="242892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615360" y="2532240"/>
                  <a:ext cx="2052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697440" y="252828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63680" y="2525400"/>
                  <a:ext cx="2160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849360" y="2532240"/>
                  <a:ext cx="21600" cy="5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flipV="1">
                  <a:off x="6797520" y="243000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6615360" y="2195280"/>
                <a:ext cx="255600" cy="154080"/>
                <a:chOff x="6615360" y="2195280"/>
                <a:chExt cx="255600" cy="15408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6629760" y="2268720"/>
                  <a:ext cx="4896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710400" y="227736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77000" y="227448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615360" y="220104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697440" y="2195280"/>
                  <a:ext cx="2376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763680" y="2199240"/>
                  <a:ext cx="216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849360" y="2201040"/>
                  <a:ext cx="2160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6797520" y="2268720"/>
                  <a:ext cx="7200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7" name=""/>
            <p:cNvGrpSpPr/>
            <p:nvPr/>
          </p:nvGrpSpPr>
          <p:grpSpPr>
            <a:xfrm>
              <a:off x="6048360" y="1991160"/>
              <a:ext cx="255960" cy="397440"/>
              <a:chOff x="6048360" y="1991160"/>
              <a:chExt cx="255960" cy="397440"/>
            </a:xfrm>
          </p:grpSpPr>
          <p:sp>
            <p:nvSpPr>
              <p:cNvPr id="868" name=""/>
              <p:cNvSpPr/>
              <p:nvPr/>
            </p:nvSpPr>
            <p:spPr>
              <a:xfrm>
                <a:off x="6122880" y="2165040"/>
                <a:ext cx="113400" cy="59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6048360" y="2224440"/>
                <a:ext cx="255960" cy="164160"/>
                <a:chOff x="6048360" y="2224440"/>
                <a:chExt cx="255960" cy="164160"/>
              </a:xfrm>
            </p:grpSpPr>
            <p:sp>
              <p:nvSpPr>
                <p:cNvPr id="870" name=""/>
                <p:cNvSpPr/>
                <p:nvPr/>
              </p:nvSpPr>
              <p:spPr>
                <a:xfrm flipV="1">
                  <a:off x="6063840" y="222480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6143760" y="222552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6211440" y="2224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48360" y="23263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30080" y="23223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196680" y="23194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283800" y="23263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6230520" y="2224800"/>
                  <a:ext cx="73440" cy="10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8" name=""/>
              <p:cNvGrpSpPr/>
              <p:nvPr/>
            </p:nvGrpSpPr>
            <p:grpSpPr>
              <a:xfrm>
                <a:off x="6048360" y="1991160"/>
                <a:ext cx="255960" cy="152640"/>
                <a:chOff x="6048360" y="1991160"/>
                <a:chExt cx="255960" cy="15264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6063840" y="2064600"/>
                  <a:ext cx="4932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43760" y="2071440"/>
                  <a:ext cx="0" cy="7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211440" y="2068560"/>
                  <a:ext cx="0" cy="74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048360" y="1995120"/>
                  <a:ext cx="2160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130080" y="1991160"/>
                  <a:ext cx="2520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196680" y="199404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283800" y="1995120"/>
                  <a:ext cx="20520" cy="57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6230520" y="2064600"/>
                  <a:ext cx="7344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7" name=""/>
            <p:cNvGrpSpPr/>
            <p:nvPr/>
          </p:nvGrpSpPr>
          <p:grpSpPr>
            <a:xfrm>
              <a:off x="5997600" y="1099800"/>
              <a:ext cx="257400" cy="397800"/>
              <a:chOff x="5997600" y="1099800"/>
              <a:chExt cx="257400" cy="397800"/>
            </a:xfrm>
          </p:grpSpPr>
          <p:sp>
            <p:nvSpPr>
              <p:cNvPr id="888" name=""/>
              <p:cNvSpPr/>
              <p:nvPr/>
            </p:nvSpPr>
            <p:spPr>
              <a:xfrm>
                <a:off x="6073560" y="1274400"/>
                <a:ext cx="111960" cy="59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5997600" y="1333440"/>
                <a:ext cx="257400" cy="164160"/>
                <a:chOff x="5997600" y="1333440"/>
                <a:chExt cx="257400" cy="164160"/>
              </a:xfrm>
            </p:grpSpPr>
            <p:sp>
              <p:nvSpPr>
                <p:cNvPr id="890" name=""/>
                <p:cNvSpPr/>
                <p:nvPr/>
              </p:nvSpPr>
              <p:spPr>
                <a:xfrm flipV="1">
                  <a:off x="6013440" y="133452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6093000" y="1334880"/>
                  <a:ext cx="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6160680" y="1333440"/>
                  <a:ext cx="0" cy="9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99760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079680" y="143136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147360" y="1429920"/>
                  <a:ext cx="2268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234480" y="143712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>
                  <a:off x="6181200" y="133452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997600" y="1099800"/>
                <a:ext cx="257400" cy="154080"/>
                <a:chOff x="5997600" y="1099800"/>
                <a:chExt cx="257400" cy="1540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6013440" y="1173600"/>
                  <a:ext cx="4896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093000" y="1181880"/>
                  <a:ext cx="0" cy="7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60680" y="117756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99760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079680" y="1099800"/>
                  <a:ext cx="237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47360" y="1102680"/>
                  <a:ext cx="22680" cy="68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234480" y="1105560"/>
                  <a:ext cx="20520" cy="56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>
                  <a:off x="6181200" y="1173600"/>
                  <a:ext cx="72000" cy="8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07" name=""/>
          <p:cNvSpPr/>
          <p:nvPr/>
        </p:nvSpPr>
        <p:spPr>
          <a:xfrm rot="16200000">
            <a:off x="-2293560" y="2471400"/>
            <a:ext cx="5708520" cy="771480"/>
          </a:xfrm>
          <a:prstGeom prst="rightArrow">
            <a:avLst>
              <a:gd name="adj1" fmla="val 50000"/>
              <a:gd name="adj2" fmla="val 113664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69720" y="5486400"/>
            <a:ext cx="8664840" cy="800280"/>
          </a:xfrm>
          <a:prstGeom prst="rightArrow">
            <a:avLst>
              <a:gd name="adj1" fmla="val 50000"/>
              <a:gd name="adj2" fmla="val 105115"/>
            </a:avLst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92200" y="6153120"/>
            <a:ext cx="16286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Desk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ingle Process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20840" y="6153120"/>
            <a:ext cx="118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SMPs or SuperComput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479760" y="6153120"/>
            <a:ext cx="9255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Loc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92800" y="6227640"/>
            <a:ext cx="1327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Glob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2521080"/>
            <a:ext cx="353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1480" y="297000"/>
            <a:ext cx="7774200" cy="8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356520" cy="1220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00"/>
                </a:solidFill>
                <a:latin typeface="Comic Sans MS"/>
              </a:rPr>
              <a:t>Computing Platforms Evolution</a:t>
            </a:r>
            <a:r>
              <a:rPr b="0" lang="en-AU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reaking Administrative Barrier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598520" y="6172200"/>
            <a:ext cx="156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Inter Pla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 ?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IPN" descr=""/>
          <p:cNvPicPr/>
          <p:nvPr/>
        </p:nvPicPr>
        <p:blipFill>
          <a:blip r:embed="rId17"/>
          <a:stretch/>
        </p:blipFill>
        <p:spPr>
          <a:xfrm>
            <a:off x="7527960" y="74520"/>
            <a:ext cx="1512720" cy="17049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580800" y="3559320"/>
            <a:ext cx="1167480" cy="200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 Pl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3200" y="3187800"/>
            <a:ext cx="226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dministrative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8"/>
          <a:stretch/>
        </p:blipFill>
        <p:spPr>
          <a:xfrm>
            <a:off x="5330880" y="4003560"/>
            <a:ext cx="111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921" name=""/>
          <p:cNvGrpSpPr/>
          <p:nvPr/>
        </p:nvGrpSpPr>
        <p:grpSpPr>
          <a:xfrm>
            <a:off x="6070680" y="4129200"/>
            <a:ext cx="449280" cy="350280"/>
            <a:chOff x="6070680" y="4129200"/>
            <a:chExt cx="449280" cy="350280"/>
          </a:xfrm>
        </p:grpSpPr>
        <p:sp>
          <p:nvSpPr>
            <p:cNvPr id="922" name=""/>
            <p:cNvSpPr/>
            <p:nvPr/>
          </p:nvSpPr>
          <p:spPr>
            <a:xfrm>
              <a:off x="6070680" y="4383720"/>
              <a:ext cx="449280" cy="957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75440" y="4129200"/>
              <a:ext cx="253080" cy="2484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190920" y="414900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4572000" y="6172200"/>
            <a:ext cx="1447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Enterp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Cluster/G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960800" y="2668680"/>
            <a:ext cx="309240" cy="447480"/>
            <a:chOff x="4960800" y="2668680"/>
            <a:chExt cx="309240" cy="447480"/>
          </a:xfrm>
        </p:grpSpPr>
        <p:sp>
          <p:nvSpPr>
            <p:cNvPr id="927" name=""/>
            <p:cNvSpPr/>
            <p:nvPr/>
          </p:nvSpPr>
          <p:spPr>
            <a:xfrm>
              <a:off x="5049720" y="28656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960800" y="2930760"/>
              <a:ext cx="309240" cy="185400"/>
              <a:chOff x="4960800" y="2930760"/>
              <a:chExt cx="309240" cy="185400"/>
            </a:xfrm>
          </p:grpSpPr>
          <p:sp>
            <p:nvSpPr>
              <p:cNvPr id="929" name=""/>
              <p:cNvSpPr/>
              <p:nvPr/>
            </p:nvSpPr>
            <p:spPr>
              <a:xfrm flipV="1">
                <a:off x="4978080" y="29318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076000" y="29332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156280" y="29307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960800" y="30463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059800" y="30416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140080" y="30384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243760" y="30463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5181120" y="29318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4960800" y="2668680"/>
              <a:ext cx="309240" cy="173160"/>
              <a:chOff x="4960800" y="2668680"/>
              <a:chExt cx="309240" cy="173160"/>
            </a:xfrm>
          </p:grpSpPr>
          <p:sp>
            <p:nvSpPr>
              <p:cNvPr id="938" name=""/>
              <p:cNvSpPr/>
              <p:nvPr/>
            </p:nvSpPr>
            <p:spPr>
              <a:xfrm>
                <a:off x="4978080" y="27511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076000" y="27608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56280" y="27576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0800" y="26751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059800" y="26686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140080" y="26733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43760" y="26751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5181120" y="27511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5553000" y="2521080"/>
            <a:ext cx="309240" cy="447480"/>
            <a:chOff x="5553000" y="2521080"/>
            <a:chExt cx="309240" cy="447480"/>
          </a:xfrm>
        </p:grpSpPr>
        <p:sp>
          <p:nvSpPr>
            <p:cNvPr id="947" name=""/>
            <p:cNvSpPr/>
            <p:nvPr/>
          </p:nvSpPr>
          <p:spPr>
            <a:xfrm>
              <a:off x="5641920" y="271800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553000" y="2783160"/>
              <a:ext cx="309240" cy="185400"/>
              <a:chOff x="5553000" y="2783160"/>
              <a:chExt cx="309240" cy="18540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5570280" y="278424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5668200" y="278568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5748480" y="278316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53000" y="289872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52000" y="289404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32280" y="289080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5960" y="289872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>
                <a:off x="5773320" y="278424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5553000" y="2521080"/>
              <a:ext cx="309240" cy="173160"/>
              <a:chOff x="5553000" y="2521080"/>
              <a:chExt cx="309240" cy="173160"/>
            </a:xfrm>
          </p:grpSpPr>
          <p:sp>
            <p:nvSpPr>
              <p:cNvPr id="958" name=""/>
              <p:cNvSpPr/>
              <p:nvPr/>
            </p:nvSpPr>
            <p:spPr>
              <a:xfrm>
                <a:off x="5570280" y="260352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668200" y="26132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48480" y="261000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53000" y="252756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52000" y="252108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32280" y="252576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5960" y="252756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773320" y="260352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4813200" y="1260360"/>
            <a:ext cx="309240" cy="447480"/>
            <a:chOff x="4813200" y="1260360"/>
            <a:chExt cx="309240" cy="447480"/>
          </a:xfrm>
        </p:grpSpPr>
        <p:sp>
          <p:nvSpPr>
            <p:cNvPr id="967" name=""/>
            <p:cNvSpPr/>
            <p:nvPr/>
          </p:nvSpPr>
          <p:spPr>
            <a:xfrm>
              <a:off x="4902120" y="1457280"/>
              <a:ext cx="138600" cy="651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4813200" y="1522440"/>
              <a:ext cx="309240" cy="185400"/>
              <a:chOff x="4813200" y="1522440"/>
              <a:chExt cx="309240" cy="185400"/>
            </a:xfrm>
          </p:grpSpPr>
          <p:sp>
            <p:nvSpPr>
              <p:cNvPr id="969" name=""/>
              <p:cNvSpPr/>
              <p:nvPr/>
            </p:nvSpPr>
            <p:spPr>
              <a:xfrm flipV="1">
                <a:off x="4830480" y="1523520"/>
                <a:ext cx="5940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4928400" y="152496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5008680" y="1522440"/>
                <a:ext cx="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813200" y="1638000"/>
                <a:ext cx="244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912200" y="1633320"/>
                <a:ext cx="2880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992480" y="1630080"/>
                <a:ext cx="2592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96160" y="1638000"/>
                <a:ext cx="26280" cy="6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5033520" y="1523520"/>
                <a:ext cx="871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813200" y="1260360"/>
              <a:ext cx="309240" cy="173160"/>
              <a:chOff x="4813200" y="1260360"/>
              <a:chExt cx="309240" cy="173160"/>
            </a:xfrm>
          </p:grpSpPr>
          <p:sp>
            <p:nvSpPr>
              <p:cNvPr id="978" name=""/>
              <p:cNvSpPr/>
              <p:nvPr/>
            </p:nvSpPr>
            <p:spPr>
              <a:xfrm>
                <a:off x="4830480" y="1342800"/>
                <a:ext cx="5940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28400" y="1352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8680" y="1349280"/>
                <a:ext cx="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13200" y="1266840"/>
                <a:ext cx="244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912200" y="1260360"/>
                <a:ext cx="28800" cy="7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992480" y="1265040"/>
                <a:ext cx="25920" cy="74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96160" y="1266840"/>
                <a:ext cx="26280" cy="63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5033520" y="1342800"/>
                <a:ext cx="87120" cy="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6" name="MANFRME1" descr=""/>
          <p:cNvPicPr/>
          <p:nvPr/>
        </p:nvPicPr>
        <p:blipFill>
          <a:blip r:embed="rId19"/>
          <a:stretch/>
        </p:blipFill>
        <p:spPr>
          <a:xfrm>
            <a:off x="1184400" y="1898640"/>
            <a:ext cx="1925640" cy="106668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1999080" y="2283480"/>
            <a:ext cx="45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calable Parallel Computer Architectur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C-NUMA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lable multiprocessor system having a cache-coherent nonuniform memory access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processor has a global view of all of th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tribut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dered conventional networks of independent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multiple system images as each node runs its own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dividual machines could be combinations of MPPs, SMPs, clusters, &amp; individual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luster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llection of workstations of PCs that are interconnected by a high-speed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as an integrated collection of resourc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ve a single system image spanning all its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5:19Z</dcterms:modified>
  <cp:revision>844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