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6368-408C-4771-869E-8AE350B5C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B422-7E33-4F55-A7D2-3DEB88286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8D88-6A84-48D7-AF3A-0A9780D30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44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96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44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96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7FD1-2941-470F-9763-3BC175828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00C7-76D7-4825-951D-FFE09D2141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ABCD-D738-41FE-8160-8E0ACD8FBE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7B4A-7F9A-4B77-B4A0-4752171002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8D09-06D6-4A4B-9BFC-1B4D2F52AC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C2F8-C2B8-4E6C-BA2F-B8510C6F2D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F504-EA82-4D9D-A19E-EC46E89BA6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3B08-A60C-44E4-83F8-69BFE0DA92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86BC-5F25-4979-B3DB-924FB7A91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3129F-483A-4F87-93A4-585315AFF6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83BB-CA38-4FE8-B759-C4CC57EA2E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23D09-5407-487A-BAE0-A5892DF78B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3192-6F84-4561-BF25-4BD9D42F94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44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960" y="151128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192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44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960" y="4264200"/>
            <a:ext cx="283068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7FDC-FB81-4C56-9A75-4401E360C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09B0-F79E-48FF-98E4-9D6240F5A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ABEC-F263-4634-99CE-04AB2C79D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6F31-E545-438A-9FE3-8F86F0E55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35394-C8FE-497B-8B4B-25A12B04B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BF14-E604-475F-98AA-4C1F1DB4E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426420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EF5A-94A6-47CE-9C42-9196DBC43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511280"/>
            <a:ext cx="429012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264200"/>
            <a:ext cx="8791560" cy="25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7C07-AB0B-4097-82F7-420DB10D0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D172-0B79-48B7-A404-AE384CF926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BB8D-7508-46AA-9C6B-045CEC66FD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740A-9434-467D-9925-1C72CE71E0A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CP, UDP, IP, and Sock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most standard communication protocols</a:t>
            </a: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ernet Protocol (IP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s unreliable delivery of single packets to one-hop distant hos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mplements two basic kinds of Q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ed, TC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gram, UD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erkeley Socket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oth TCP/IP and UDP/IP were made available to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application leve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hrough the API, namely Berkeley Socke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twork is perceived as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character devic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and sockets ar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file descriptor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related to the devi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level of abstraction is quite lo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PC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mote Procedure Call, RPC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hanced general purpose (specially distributed client-server applications) network abstraction atop sock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de facto standard for distributed client-server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s level of abstraction is hig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miliarity and generality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quential-like programm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ces are requested by calling procedures with suitable parameters. The called service may also return a res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ding any format differe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ides any format difference across different systems connected to the network in heterogeneous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PI and PVM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General-purpose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general-purpose systems for message passing and parallel program management on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distributed platform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t the application level, based on available IPC mechanis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rallel Virtual Machine (PVM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s an easy-to-use programming interface for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process creatio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P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lus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run-time syste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for elementary application manage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un-time programmable but ineffici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ssage Passing Interface (MPI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ffers a larger and more versatile set of routines than PVM, but does not offer run-time management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reater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 efficien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pared to PV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ne-sided communication paradig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never the sender process transmits a message, the message exchange occurs regardless of the current activity of the receiver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ducing overhead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goal is to reduce the impact of communication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overhea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n application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ctive Messag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iminates the need of many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temporary storag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messages along the communication pa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proper hardware support, it is easy to overlap communication with compu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 soon as delivered, each message triggers a user-programmed function of the destination process, called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receiver hand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ceiver handler act as a separate thread consuming the message, therefore decoupling message management from the current activity of the main thread of the destination 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01760" y="1771560"/>
          <a:ext cx="4492800" cy="4741920"/>
        </p:xfrm>
        <a:graphic>
          <a:graphicData uri="http://schemas.openxmlformats.org/drawingml/2006/table">
            <a:tbl>
              <a:tblPr/>
              <a:tblGrid>
                <a:gridCol w="449280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-II API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irtual Network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irmwar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ardwar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Communication Model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1566720"/>
          <a:ext cx="7688160" cy="51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66720"/>
                    <a:ext cx="768816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400" y="152280"/>
            <a:ext cx="899136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nceptual Depiction of Send-Receive Protocol for Small Messag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28600" y="1566720"/>
          <a:ext cx="6762960" cy="528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8600" y="1566720"/>
                    <a:ext cx="6762960" cy="52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400" y="152280"/>
            <a:ext cx="899136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nceptual Depiction of Send-Receive Protocol for Large Messag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25640" y="1617840"/>
          <a:ext cx="681012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617840"/>
                    <a:ext cx="681012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AM-II API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upport three types of messag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rt, medium, bul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eturn-to-sender error model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undeliverable messages are returned to their sen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tions can register per-endpoint error handl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Virtual network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abstract view of collections of endpoints as virtualized interconnec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rect network acces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endpoint is mapped into a process’s address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t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standard virtual memory mechani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-demand binding of endpoint to physical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 memory: endpoint cache – active end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memory: less active end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point fault hand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ightweight Messaging System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hapter 10: by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. Chiola &amp; G.Ciacci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530360"/>
            <a:ext cx="5435640" cy="51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ncy/Bandwidth Evaluation of Communication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ditional Communication Mechanisms for Clu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htweight Communication Mechanis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-Level Lightweight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-Level Lightweight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67920" indent="-256680">
              <a:lnSpc>
                <a:spcPts val="3498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mparison Among Message Passing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4320" y="2741760"/>
            <a:ext cx="2785320" cy="3431160"/>
            <a:chOff x="6304320" y="274176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522840" y="274176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304320" y="586584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irmwa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point schedul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eighted round-robin polic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kip empty queu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attempts to send, where k=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ow contro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ll the communication pipe between sender and receiv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event receiver buffer overru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ree level flow contro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r-level credit base flow contr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C level stop-and-wait flow contr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-level back press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nnel management tabl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nnel-based flow contr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mer managem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out and retransmis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rror handl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ect duplicated or dropped messa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quence number &amp; timesta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ect unreachable endpoi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meout &amp; retransmis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ect &amp; correction other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r-level error handl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ctive Message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Performance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100 Ultra SPARC stations &amp; 40 Myrinet switch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42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µs round trip tim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1 MB/s bandwidth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ightweight Communication Mechanis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Lightweight protocol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pe with the lack of efficiency of standard communication protocols for cluster compu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Linux TCP/IP is not good for cluster computin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formance test in Fast Etherne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viron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ntium II 300 MHz, Linux kernel 2.0.2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 PCs are connected by UTP ported 3Com 3c905 Fast Eth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tency = 77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µs (socket) /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µs (car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rge data stream: 86%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hort message (&lt;1500 bytes): less than 50%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rawbacks of layered protocol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-to-memory cop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or code loc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vy functional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nux 2.0.29 TCP/IP Sockets: Half-Duplex “Ping-Pong” Throughput with Various NICs and CPUs (Nagle Disabled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36600" y="1521000"/>
          <a:ext cx="6093000" cy="52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6600" y="1521000"/>
                    <a:ext cx="609300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We Need for Efficient Cluster Computing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o implement an efficient messaging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oose an appropriate LAN hardwar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) 3COM 3c905 NIC can be programmed in two 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descriptor-based DMA (DBDMA), the NIC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 itsel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erforms DMA transfers between host memory and the network by ‘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MA descript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CPU-driven DMA, this leads to a ‘store-and-forward’ behav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ailor the protocols to the underlying LAN hardw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) flow control of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avoids packet overflow at the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receiver sid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ut cannot prevent overflow to occur in a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LAN swit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cluster computing, the overflow in a LAN switch is impor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 We Need for Efficient Cluster Computing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o implement an efficient messaging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arget the protocols to the user need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users and different application domains may need different tradeoffs between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ptimize the protocol code and the NIC driver as much as possibl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nimize the use of memory-to-memory copy op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) TCP/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/IP is the layered structure needed memory-to-memory data mov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ing multiple networks in paralle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reases the aggregate communication bandwidt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not reduce laten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mplifying LAN-wide host naming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dressing conventions in a LAN might be simpler than in a WA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implifying communication protoco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ng protocol functions are time-consuming and have poor locality that generates a large number of cache mi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eneral-purpose networks have a high error rate, but LANs have a low error r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ptimistic protocols assume no communication errors and no conges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voiding temporary buffering of mess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Zero-copy protoco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apping the kernel-level temporary buffers into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user memory sp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k the user data structures into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physical R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let the NIC access them directly upon communication via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gather/scatter fac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ipelined communication pat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me NICs may transmit data over the physical medium while the host-to-NIC DMA or programmed I/O transfer is still in progr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erformance improvement is obtained at both latency and throughpu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void system calls for communica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voking a system call is a time-consuming tas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ser-level communication architectu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s the communication system entirely at the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user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buffers and registers of the NIC are remapped from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kernel sp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user memory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prote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llenges in a multitasking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Lightweight system calls for communica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liminate the need of system call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ve only a subset of CPU registers and do not invoke the scheduler upon re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ypical Techniques to Optimize Communication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st interrupt pat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order to reduc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nterrupt latenc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n interrupt-driven receives,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code pat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the interrupt handler of the network device driver is optimiz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olling the network devi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usual method of notifying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message arrival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nterrupt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time-consuming and sometimes unacceptab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s the ability of explicitly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inspectin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r polling the network devices for incoming messages, besides interrupt-based arrival notif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roviding very low-level mechanis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kind of RISC approac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vide only very low-level primitives that can be combined in various ways to form higher level communication semantics and APIs in an ‘ad hoc’ wa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mmunication mechanism is one of the most important part in cluster syste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s and Workstations become more powerful and fast network hardware become more afford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isting communication software needs to be revisited in order not to be a severe bottleneck of cluster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n this chapter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icture of the state-of-the-art in the field of clusterwide commun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ing existing proto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essage-passing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s and clusters are distributed-memory architec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distributed-memory architectures are based on message-passing communication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Importance of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fficient Collective Communic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o turn the potential benefits of clusters into widespread use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evelopment of parallel applications exhibiting high enough performance and efficiency with a reasonable programming eff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Porting proble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MPI code is easily ported from one hardware platform to an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performance and efficiency of the code execution is not ported across platfor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ollective communic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ctive routines often provide the most frequent and extreme instance of “lack of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performance porta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most cases, collective communications are implemented in terms of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point-to-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mmunications arranged into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standard patter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mplies very poor performance with clu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a result, parallel programs hardly ever rely on collective routi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8400"/>
            <a:ext cx="879156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lassification of Lightweight Communication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lassification of lightweight communication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nel-level systems and user-level 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Kernel-level approac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messaging system is supported by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S kerne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with a set of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low-leve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mmunication mechanisms embedding a communication protoco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ch mechanisms are made available to the user level through a number of OS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ystem cal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t into the architecture of modern OS providing protected acces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drawback is that traditional protection mechanisms may require quite a high softwar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verhead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r kernel-to-user data movement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lassification of Lightweight Communication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ser-level approac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mproves performance by minimizing the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S involvem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n the communication pat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cess to the communication buffers of the network interface is granted without invoking any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ystem cal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y communication layer as well as API is implemented as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user-level programming libra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allow protected access to the communication devic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-user network ac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acceptable to modern processing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ict gang schedu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efficient, intervening OS schedul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verage programmable communication de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common de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dition or modification of OS are nee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Kernel-level Lightweight Communic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dustry-Standard API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eowulf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ast Socket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ARM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Best-Performance syste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enoa Active Message MAchine (GAMMA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xford BSP Clust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-Net on Fast Ethern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ortability and reus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main goal besides efficiency is to comply an industry-standard for the low-level communication API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oes not force any major modification to the existing OS, a new communication system is simply added as an extension of the OS itself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rawback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optimization in the underlying communication layer could be hampered by the choice of an industry standar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Beowulf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Linux-based cluster of PC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hannel bonding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or more LANs in parall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-dimensional me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Ethernet cards on each node are connected to horizontal and vertical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node acts as a software ro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Fast Socke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mplementation of TCP sockets atop an Active Message layer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cket descriptors opened at fork time are shared with child processe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oor performance: UltraSPARC 1 connected by Myrine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7.8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latency due to Active Mess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.9 MB/s asymptotic bandwidth due to SBus bottlene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2232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stry-Standard API System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PARMA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reduce communication overhead in a cluster of PCs running Linux connected by Fast Ethern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minate flow control and packet acknowledge from TCP/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y host 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tain BSD socket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 porting of applications (ex. MPIC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rving NIC dri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formance: Fast Ethernet and Pentium 133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, 6.6 MB/s (TCP/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 for MPI/PARMA (40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for MP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 for MPIP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mplified protocols designed according to a performance-oriented approa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Genoa Active Message Machine (GAMMA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ctive Message-like communication abstraction called Active Ports allowed a </a:t>
            </a:r>
            <a:r>
              <a:rPr b="0" lang="en-US" sz="2600" spc="-1" strike="noStrike">
                <a:solidFill>
                  <a:srgbClr val="ffcf01"/>
                </a:solidFill>
                <a:latin typeface="Comic Sans MS"/>
              </a:rPr>
              <a:t>zero-copy optimist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protoco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 lightweight system call, fast interrupt path, and pipelined communication pa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user protected access to networ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nreliable: raise error condition without recover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fficient performance (100base-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7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, 12.2 MB/s asymptotic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t*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communication system for Fast Ethernet based upon a reliable protocol implemented at kernel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map kernel-space buffers into user-space to allow direct acc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nly a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 sing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user process per node can be granted network acc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rawback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kernel-operated network multiplexing is perform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processes have to explicitly fragment and reassemble messages longer than the Ethernet MT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ery good perform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3.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 and 12.2 MB/s asymptotic bandwid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atency/Bandwidth Evaluation of Communication Performanc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Major performance measurement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erformance of communication systems are mostly measured by two parameters below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ency, 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als with the synchronization semantics of a message ex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ymptotic bandwidth,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als with the (large, intensive) data transfer semantics of a message exch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Oxford BSP Cluster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some structural restriction on communication traffic by allowing only some well known patterns to occ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ood to optimizing error detection and recov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arallel program running on a BSP cluster is assumed to comply with the </a:t>
            </a:r>
            <a:r>
              <a:rPr b="0" lang="en-US" sz="1800" spc="-1" strike="noStrike">
                <a:solidFill>
                  <a:srgbClr val="ffcf01"/>
                </a:solidFill>
                <a:latin typeface="Comic Sans MS"/>
              </a:rPr>
              <a:t>BSP computational mod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s of BSP clus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stination scheduling is different from processor to proce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ed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ing exchanged packets as acknowledgement packe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SPlib-N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most efficient version of the BSP cluster protocol has been implemented as a device driver called BSPlib-N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mapping the kernel-level FIFOs of the NIC into user memory space to allow user-level access to the FIF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 need to “start transmission” system calls along the whole end-to-end communication pa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formance (100base-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9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 latency, 11.7 MB/s asymptotic bandwid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st-Performance System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-Net on Fast Etherne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quire a NIC’s programmable onboard processo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drawback is the very raw programming interfa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formance (100base-T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one-way latency, 12.1 MB/s asymptotic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-Ne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-level network interface for parallel and distributed comput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esign goa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w latency, high bandwidth with small messag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mphasis protocol design and integration flexibil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ortable to off-the-shelf communication hardwar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ole of U-Ne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ultiplex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tec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irtualization of NI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aditional Communication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2160" y="2009880"/>
          <a:ext cx="896148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2009880"/>
                    <a:ext cx="896148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-Net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2280" y="1862280"/>
          <a:ext cx="8974080" cy="40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62280"/>
                    <a:ext cx="897408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uilding Blocks of U-Ne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280" y="1744560"/>
          <a:ext cx="8791560" cy="472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4560"/>
                    <a:ext cx="879156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User-level approach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rived from the assumption that OS communications are inefficient by defini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OS involvement in the communication path is minimize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ree solutions to guarantee protec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everage programmable NIC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for device multiplexing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anting network access to one single trusted user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ways accep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etwork gang schedul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lusive access to the network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asic Interface for Parallelism (BIP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ed atop a Myrinet network of Pentium PCs running Lin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both blocking and unblocking communication primiti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-receive paradigm implemented according to rendezvous communication m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licies for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imple detection feature without recove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gment any send message for pipelin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 rid of protected multiplexing of the N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gister of the Myrinet adapter and the memory regions are fully exposed to user-level ac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4.3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latency, 126MB/s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/IP over BIP: 7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latency, 35MB/s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PI over BIP: 1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latency, 113.7MB/s band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ast Mess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tive Message-like system running on Myrinet-connected cluster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liable in-order delivery with flow control and retransmiss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orks only in single-user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hancement in FM 2.x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gramming interface for 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/scatter fea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ICH over FM: 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, 77 MB/s bandwidth (FM 1.x, Sun SPAR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, 77 MB/s bandwidth (FM 2.x, Pentiu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Hewlett-Packard Active Messages (HPAM)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implementation of Active Messages on a FDDI-connected network of HP 9000/735 workstation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ected, direct access to the network by a single process in mutual exclu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iable delivery with flow control and retransmiss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erformance (FDDI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latency, 12 MB/s asymptotic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atenc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urpos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ze the speed of underlying system to synchronize two cooperating processes by a message exchan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ime needed to send a minimal-size message from a sender to a receiv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the instant the sender starts a send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the instant receiver is notified about the message arriv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nder and receiver are application level proces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asure the latency, L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 ping-pong microbenchmar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computed as half the average round-trip time (RT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card the first few data for excluding “warm-up” effec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30320"/>
            <a:ext cx="87915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U-Net for AT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r processes are given direct protected access to the network device with no virtualiz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programming interface of U-Net is very similar to the one of the NIC itself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dpoi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terconnect is virtualized as a set of ‘endpoints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point buffers are used as portions of the NIC’s send/receive FIFO que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point remapping is to grant direct, memory-mapped, protected ac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rformance (155 Mbps ATM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4.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latency, 15 MB/s asymptotic bandwid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130320"/>
            <a:ext cx="87915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ser-Level Lightweight Communications (V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Virtual Interface Architecture (VIA)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attempt to standardize user-level communication architectures by Compaq, Intel, and Microsof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es a communication architecture extending the basic U-Net interface with remote DMA (RDMA)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N with high bandwidth, low latency, low error rate, scalable, and highly available interconn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detection in communication lay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ed multiplexing in NIC among user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ability is not mandat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-V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irst version of VIA implementation on Fast/Gigabit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rnel-emulated VIA for Linu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ormance (100base-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 latency, 11.9 MB/s asymptotic bandwid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omparison Among Message Passing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lusters vs. MPP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Standard Interface approach vs. other approach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User level vs. kernel-level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ing-Pong” Comparison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ssage Passing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63520" y="1463760"/>
          <a:ext cx="6489720" cy="53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463760"/>
                    <a:ext cx="6489720" cy="53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nd-to-end and One-sided Asymptotic Bandwidth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urpos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aracterizes how fast a data transfer may occur from a sender to a receiv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ymptotic”: the transfer speed is measured for a very large amount da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, bulk, or str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tion of asymptotic bandwidth, B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 = S/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the time needed to send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bytes of data from a sender to a receiv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ust be very large in order to isolate the data transfer from any other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overhea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related to the synchronization semantic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nd-to-end and One-sided Asymptotic Bandwidth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asure the asymptotic bandwidth, B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nd-to-e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 ping-pong microbenchmark to measure the average round-trip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computed as half the average round-trip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measures the transfer rate of the whole end-to-end communication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ne-sid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crobenchmark to measure the average send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measures the transfer rate as perceived by the sender side of the communication path, thus hiding the 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overh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the receiver s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computed as the average data transfer time (not divided by 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value of one-sided is greater than one of end-to-e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roughpu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ssage Delay, D(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(S) = L + (S –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/B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fcf01"/>
                </a:solidFill>
                <a:latin typeface="Comic Sans MS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the minimal message size allowed by the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lf the round-trip time (ping-po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 transfer time (p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finition of throughput, T(S)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(S) = S/D(S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is worth nothing that the asymptotic bandwidth is nothing but the throughput for a </a:t>
            </a:r>
            <a:r>
              <a:rPr b="0" lang="en-US" sz="2200" spc="-1" strike="noStrike">
                <a:solidFill>
                  <a:srgbClr val="ffcf01"/>
                </a:solidFill>
                <a:latin typeface="Comic Sans MS"/>
              </a:rPr>
              <a:t>very large messag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partial view of the entire throughput curv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= B /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the message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aditional Communication Mechanisms for Clust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511280"/>
            <a:ext cx="8791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Interconnection of standard componen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focus on the standardization for interoperation and portability than efficient use of resourc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CP/IP , UDP/IP and Socket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PC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MPI and PV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ctive Message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3:35Z</dcterms:modified>
  <cp:revision>821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