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9AB7-627A-4D15-BEB3-0A31E3A95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280F-DDAD-43D0-91FE-303FE8C01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C131-6A5E-43BA-8743-F07C00211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062-BD3B-457A-94C3-2085AE172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D51F-7D1C-417B-8E86-F03DBC02E0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A56A-BC1B-4A42-AAD9-221D1ADBA8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B412-3397-48C1-84E6-80A6DB7806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C720-571B-4378-9152-C2252C2680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6718-5D24-48B0-BC05-4CF52F2E2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779C-BC87-4FCA-92E2-3735F912D0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CF73-CDE1-412A-88E8-36F98AB38F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08AE-F139-4D44-8537-7903E4E65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3BBD7-709F-426D-8440-08C8ED492A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22CC-F99C-443A-AB59-DC12A403A9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0EC5-C63E-41E0-AADD-6D9B6EA85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D25E-BE1C-4D76-A423-BE15D29A5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2EB4-A547-49D4-9C4E-1F78516D7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D6EE-6DB0-455C-9461-D3D2A344A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0F2D-39BC-47CF-9CF4-DF1FD0325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63E1-6B6B-4385-9A22-0D2725983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07FC-B6A6-4523-AB73-77077D292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0728-BEE8-4E6B-ADD1-F92CAC221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037C-28D3-4C21-9655-572DA1360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9961-9058-4936-BCEE-3068AEAC9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80A-79CE-4634-A808-BDD66F143E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77D7-8A6E-4EFA-8394-4DF1932A5838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E80-21CF-4426-819E-D71F9023F77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ults, Errors, Failur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 la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between the first occurrence of the error an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ment when it is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onger, the most affected the internal state of the system may bec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an error has some phenomenological ca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i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-execution can compensate for a transient faul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207080" indent="-301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man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complex to hand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59600" indent="-3016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faults (bug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hrbug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gs are always there again when the program is re-execu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-3016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isenbu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1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in a re-execution, the timing will usually be slightly different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bug does not happen aga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Attribut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ability of that continuous correct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asure of the probability that the system will be providing  good service at a given point in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B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Between Fail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TT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219320" indent="-304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ean Time To Repair a failure,  &amp; bring the system back to correct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ilability can be expressed as MTBF/(MTBF+MTT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ility Concep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pendability Mea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preven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ing faults from occur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d through conservative design, formal proofs, extensive testing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vent errors from becoming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pproaches are complement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aster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chniques aimed at handling a very particular type of faults, namely site failures caused by fire, floods, sabotages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 implies having redundant hardware at a remote c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hare-Nothing versus Shared-Storag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-nothing clust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 has its own memory &amp; own storage resour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nodes to access common devices or resources, as long as these resources are owned and managed by a single system at a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the complexity of cache coherency schemes &amp; distributed lock manag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 eliminate single point of failure within the cluster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le, because of the lack of contention &amp;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veral strategies aimed at reducing bandwidt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-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servers share the same storage resource with the consequent need for synchronization between disks accesses to keep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lock managers must be u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 becomes compromi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hared-nothing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6" name="Figure_21" descr=""/>
          <p:cNvPicPr/>
          <p:nvPr/>
        </p:nvPicPr>
        <p:blipFill>
          <a:blip r:embed="rId1"/>
          <a:srcRect l="1188" t="0" r="0" b="1757"/>
          <a:stretch/>
        </p:blipFill>
        <p:spPr>
          <a:xfrm>
            <a:off x="762120" y="1600200"/>
            <a:ext cx="769608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ctive/Standby versus Active/Activ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Stand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hot 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server where the critical application r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ary server (hot sp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ly in standby m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a lower performance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/Activ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servers are active &amp; do not sit idle waiting for a fault to occur &amp; take 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ing bidirectional-failo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ice to performance ratio d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-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active servers that back up one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/Standb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0" name="Figure_22" descr=""/>
          <p:cNvPicPr/>
          <p:nvPr/>
        </p:nvPicPr>
        <p:blipFill>
          <a:blip r:embed="rId1"/>
          <a:srcRect l="2401" t="603" r="1292" b="603"/>
          <a:stretch/>
        </p:blipFill>
        <p:spPr>
          <a:xfrm>
            <a:off x="1828800" y="1600200"/>
            <a:ext cx="5334120" cy="50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-Way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2" name="Figure_23" descr=""/>
          <p:cNvPicPr/>
          <p:nvPr/>
        </p:nvPicPr>
        <p:blipFill>
          <a:blip r:embed="rId1"/>
          <a:srcRect l="3123" t="724" r="1561" b="0"/>
          <a:stretch/>
        </p:blipFill>
        <p:spPr>
          <a:xfrm>
            <a:off x="2362320" y="1486080"/>
            <a:ext cx="46479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main kinds of interconnects – network, storage, 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tal for clus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interconn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unication channels that provides the network connection between the client systems &amp; the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ly Ethernet or fast-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vide the I/O connection between the cluster nodes &amp; disk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SI and Fib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SI is more popular, limit in length (SCSI extender technologi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C-AL permits fast connections - 100Mb/s - &amp; up to 10 K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ditional comm media used for monitoring purposes (heartbeats transfe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CR Lifekee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 both the network &amp; storage interconnect for monito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so have an additional serial link between the servers for that purpo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Interconnec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6" name="Figure_24" descr=""/>
          <p:cNvPicPr/>
          <p:nvPr/>
        </p:nvPicPr>
        <p:blipFill>
          <a:blip r:embed="rId1"/>
          <a:srcRect l="0" t="0" r="0" b="1276"/>
          <a:stretch/>
        </p:blipFill>
        <p:spPr>
          <a:xfrm>
            <a:off x="1447920" y="1447920"/>
            <a:ext cx="633708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Clustered Computing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4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J. Carreira and J. Gabriel Silv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867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orlds Conver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pendable Concep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 Architectur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tecting and Masking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covering from Faul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actice of Dependable</a:t>
            </a:r>
            <a:br>
              <a:rPr sz="3000"/>
            </a:b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48960" y="2286000"/>
            <a:ext cx="2785320" cy="3431160"/>
            <a:chOff x="6348960" y="228600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228600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48960" y="541008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rtual Interface (VI)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open industry specification promoted by Intel, Compaq, &amp; Microsof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im at defining the interface for high performance interconnection of servers and storage devices within a cluster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 proposes to standardize the network (SA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fine a thin, fast interface that connects software applications directly to the networking hardware while retaining the security &amp; protection of the 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I-S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ly optimized for high bandwidth &amp; low latency co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Architecture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torage Area Network &amp; Fiber Channel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liminate the bandwidth bottlenecks &amp; scalability limitations imposed by previous storage (mainly SCSI bus-based) archite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SI is based on the concept of a single host transferring data to a single LUN (logical unit) in a serial mann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-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erged as the high-speed, serial technology of choice for server-storage conne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ost widely endorsed open standard for the SAN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bandwidth &amp; scalability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multiple protocols (SCSI, IP) over a single physical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 sca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important advantages of the SAN appro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key to enabling infrastructure for long term growth &amp; manage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dependable systems is built upon several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DM (Error Detection Mechanis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ied according to 2 importa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cove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rcentage of errors that ar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ction 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ime an error takes to be detec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agnosis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 as much info as possible about the location, source &amp; affected p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diagnosis over the failed system to determine whether the fault is transient or perman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&amp; reconfigur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elf-Test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detect errors generated by perman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executing specific programs that exercise different parts of the system, &amp; validating the output to the expected known res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very effective in detecting transient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cessor, Memory, and Bus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bits - primary mem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ity checking circuitry – system buse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AC (error detection &amp; correction) chi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on in workstation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t-in error detec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ide of microprocess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 to detect problem occurs at a higher level or affects data in subtle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atchdog Hardware Tim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 simple way of keeping track of proper process func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 timer is not reset before it expires, the process has probably failed in some 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dication of possible process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verage is limi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&amp; results are not check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in SW or H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oosing the Software Watchdo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rocess that monitors other process(es) for err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mplest) Watch its application until it eventually crashes, the only action it takes is to relaunch the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itored process is instrumented to cooperate with the watchd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ical example of a SW watchd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eartbea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eriodic notification sent by the application to the watchdog to assert its aliven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ist of an application–initiated “I’m Alive” message, or a request-response scheme (watchdog requests the application to assert its aliveness through “Are you Alive?” message) &amp; wait for acknowledg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coexist in the sam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less if OS crash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ing solutions provide several alternate heartbeat pat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P-IP, RS-232, a shared SCSI b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dle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form the watchdog about periods when the application is idle, or it is not doing any useful work, then the watchdog can perform preventive actions (restarting applicatio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Rejuve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tware gets older, the probability of faults is higher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rror notification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 application that is encountering errors which it can’t overcome can signal the problem to the watchdog &amp; request recovery a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tart may be enoug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cting and Masking Fault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ssertions, Consistency Checking, and ABF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cy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fault detection technique that can be implemented both at the hardware and at the programming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ed by verifying that the intermediate or final results of some operation are reason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e hardware level, built-in consistency checks for checking addresses, opcodes, and arithmetic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ge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rm that a computed value is within a valid r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gorithm-Based Fault Tolerance (ABF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executing an algorithm, the application runs a consistency check specific for that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 for matrix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matrices with additional colum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heckpointing and Rol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a process to save its state at regular intervals during normal execution so that it can be restored later after a failure to reduce the amount of lost wor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 a fault occurs, the affected process can simply be restarted         from the last saved checkpoint (state) rather than from the begin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long-running applications against transient fa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itable to recover applications from software err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pointing classif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arency (data to include in the checkpoi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points can be transparently or automatically inserted at runtime (or by the compiler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ave large amounts of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erted manually by the application programm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eckpointing interv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time interval between consecutive checkpoi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itical for automatic checkpoi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a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roup of operations which form a consistent transformation of st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rations :- DB updates, messages, or external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ID proper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mic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all or none of the actions should happen commit or ab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sis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ransformation should see a correct picture of the state, even if concurrent transactions are updating the stat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ansaction should be a correct state trans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ce a transaction commit, all its effects must be preserved, even if there is a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overing from Fault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ilover and Failbac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over pro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re of the cluster recovery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tuation in which the failure of one node causes a switch to an alternative or backup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totally automatic and transparent, without the need for administrator intervention or client manual re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a number of resources to be switched over to the new system (switch network ident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over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in fault-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t with multiple components running in lock-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ilb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back the applications/clients to the original server once it is repai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be automatic &amp; transpar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efficiently for another purpose: mainten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wo different areas of computing with slightly different motiva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(H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(H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ustering model can provide both HA &amp; HP, and also manageability, scalability, &amp; afford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omplish the dream, cluster software technologies still have to evolve &amp; ma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man’s answer for the parallel high performance computing qu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served in Gordon Bell pr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homogeneous, tightly coupled, nodes trust each ot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are with 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number of h/w components rises, so does the probability of fai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Leslie Lamport) “ a distributed system is one in which the failure of a computer you didn’t even know existed can render your own computer unusabl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asing probability of fault occurrence for long-running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MS Cluster Server</a:t>
            </a:r>
            <a:endParaRPr b="0" lang="en-US" sz="1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lfpac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vide HA over legacy windows applications, as well as provide tools &amp; mechanisms to create cluster-aware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erited much of the experience of Tandem in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ndem provided the Nonstop SW &amp; the ServerNet from Himalaya Server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phased approac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 :- support 2 node clusters &amp; failover of one node to ano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ase II :- a multinode share-nothing architecture scalable up to 16 no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lock-step/fault-tolerant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support the “moving” of running appli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99.99999 % available (max of 3-4 sec of downtime per year), but 20 - 30 sec downtime per ye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tructured approach to the cluster paradigm using a set of abstrac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:- a program or device managed by a clu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source Group :- a collection of related resourc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uster :- a collection of nodes, resources, and group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building block of the archite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s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ffline (exists but is not offering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nline (exists and offers serv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2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ailed (not able to offer service)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CR LifeKeep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1980 NCR began delivering failover products to the telecomm indu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ifeKeeper in the Unix world in beginning of 90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ently ported to Windows 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e fault detection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rtbeat via SCSI, LAN, &amp; RS 232, event monitoring, &amp; Log monito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 different configu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/active, active/standby, &amp; N-way (with N=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very action SW kits for core system component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point of administration &amp; remote administration capabiliti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ractice of Dependable Clustered Comput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racle Failsafe and Parallel Serve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DB options for clustered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rchetype of a cluster solution specially designed for DB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Failsa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sed on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max of 2 nodes (due to limitations of MSCS phase 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workgroup and department serv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Parallel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a single DB running across multiple nodes in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require MS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more than 2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geted for enterprise level systems, seeking not only HA but also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gital Clusters for Windows NT &amp; IBM’s “Phoenix”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acle serv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hot-backups, replication, &amp; mirrored sol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64" name="cluster4ha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316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ilov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 case of failure of a component in the primary system, the critical applications can be transferred to the secondary server, thus avoiding downtime and guaranteeing application’s availabi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evitably imply a temporary degradation of the service, but without total permanent los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ult-tolerant servers, pioneered by Tand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Worlds Converg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ly fault tolerance can enable effective parallel computing by allowing application continu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ism enables high-availability by providing redundanc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pendability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ose as an issue as soon as clusters started to be used by HP commun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o main reasons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systems scale up to hundreds of nodes, the likelihood of a node failure increases proportionally with number of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used not only by permanent faults (permanent damage), but mainly by transient ones (due to heating, electromagnetic interference, marginal design, transient SW faults, and power supply disturbanc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ose faults that statistically don’t cause node failures, but have other insidious eff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effect of faults on application running in paralle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arge percentage of faults do not cause nodes to crash, system panics, core dumps, or application to ha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many cases, everything goes apparently fine, but in the end, parallel application generate incorrect res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pendable Paralle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ampl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CI Red : 9000 Intel Pentium Pro (a 263 Gbytes memory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: 10 hours for permanent faults, 1-2 hours for transient faults (a node’s MTBF is 10 years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NL (MPP, not clus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20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negie Mellon University (400 nod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TBF is 14 hour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demand for HA applications increas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onic commerce, WWW, data warehouse, OLAP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ost of outage is substa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evelopment of dependable comput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d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of the first protection mechanism for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offline back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t-back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data, not just at a certain time of the day, but on a continuous basis using a mirrored storage system where all data is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were introduced to protect data integ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dvanced H/W redundancy syste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cy at all system level to eliminate single point of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t, 99.999 % availability (5 mins downtime per yea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ssion/Business Critical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bine highly reliable &amp; highly scalable computing solutions with open &amp; affordabl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done with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bility to scale to meet the demands of service growth became a requir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erformance joined high-availability as an additional requirement for mission/business critical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s intrinsically have the ability to provide HP &amp; sca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 scalable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oday’s mission/business critical clusters as a combination of the following capabilit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ailability: one system to failover to another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lability: increase the number of nodes to handle load incre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: perform workload distrib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manage a sing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requir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uster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24Z</dcterms:modified>
  <cp:revision>895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