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48E6-E2A7-4329-AE49-D994B1747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86AA-BECF-49FB-B11E-8283F0C3C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C90B-977A-470A-9D27-5914EF559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5209-189A-4F61-BB55-461FF70C8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7B571-D2AA-4370-9E44-3D78A6D9E9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5C9D-2627-46D9-B78B-36ECC1AB2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86FC-E5C4-4C65-82F9-5D51AC42E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0A14-A95A-46E7-B498-553F66B79C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8E9A-2247-40B5-A961-FC96B5AC6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33E4-333A-4C70-8643-28FDAE1316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88C8-C420-4A06-9546-1BDA8B8FB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69EA-4064-43C9-946E-7548DC1C0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37BB-8AD9-4A0F-9C76-5A21CAE77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3413-0D6C-4E25-A8D3-56480B4BF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8D346-EF76-417C-94D0-379C70D24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51ED-74AE-401E-9D3E-D29390D0B2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0752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8680" y="156168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7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0752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8680" y="4288320"/>
            <a:ext cx="283860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033D-9065-412D-BEDD-E7C27A1219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3E6A-D6FA-4C36-B8C4-463861A3E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01A2-E50E-471B-8181-4E7BA2034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614D-A71F-4166-B734-505237550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FA4-88DE-44F7-9692-DB509F0CB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5308-5D30-457F-ACC9-7E8F2F9EA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428832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D822-7F57-4C1D-9211-FFDC4E69D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561680"/>
            <a:ext cx="43023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720" y="4288320"/>
            <a:ext cx="8816760" cy="24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C2A4-240B-4F69-854B-118A1C2B8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46D5-7B8D-45F8-8449-94D5EA6393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FDC4-0D8F-46FF-87BC-F8CCD0D22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927-EA15-4A8D-BF25-5DF31BF2AF0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System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6280" y="1467000"/>
          <a:ext cx="818496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67000"/>
                    <a:ext cx="818496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client workstation has a remote paging sub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able it to use network memory as backing st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global resource management pro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on a workstation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 information about the memory resources &amp; how they are being utilized in the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nfiguration server  (registry server) pro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the setup of the network memory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contacted when a machine wants to enter or leave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ed according to the system administrator’s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ent remote paging sub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main compon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echanism for intercepting &amp; handling page fa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ge management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track of which local pages are stored on which remote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2 alternative implementations of transparent remote paging subsystem on the client work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mechanisms provided by the existing client’s 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modifying the virtual memory manager &amp; its mechanisms in the client’s OS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 Level Memory Management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ach program uses new memory allocation &amp; management calls, which are usually contained in a library dynamically or statically linked to the us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quire some program code modif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totype by E. Anders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stom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bra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TCP/IP, perform a 4K page replacement in 1.5 – 8.0 ms (1.3 – 6.6 fas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chan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cept page faults through the use of segmentation faul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egmentation fault signal from OS memory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signal intercepted by the user level signal handler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ge management algorithm is called to locate &amp; transfer a remote page into local memory, replacing a local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 Level Memory Management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5200" y="1515960"/>
          <a:ext cx="7569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515960"/>
                    <a:ext cx="7569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wap Device Driv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OS level implemen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odern operating system provide virtual memory manager which swap pages to the first device on the list of swap devices which will be the remote memory paging device dr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custom block device &amp; configure the virtual memory manager to use it for physical memory backing sto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 run out of physical memory, it will swap pages to the first device on the list (may be the remote memory paging device driv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and when this Network RAM device runs out of space, the virtual memory manager will swap pages to the next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in concept &amp; require one minor modification to the 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ddition of a device driv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wap Device Driver Solution’s Stru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58760" y="1542960"/>
          <a:ext cx="720900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542960"/>
                    <a:ext cx="720900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using Existing OS Mechanisms (I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ge Management Polici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ich memory server should the client select each time to send pag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resource management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ndling of a server’s pages when its workstation becomes loa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 the client &amp; the other servers of its loaded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them to the server’s disk &amp; deallocate them each time they are refere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all the pages back to the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all servers are ful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the pages on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OS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ftware solution offers the highest performance without modifying user pro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 arduous ta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t portable between architectu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 modific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global memory management in a workstation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a single unified memory manager as low-level component of OS that runs on each workst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integrate all the Network RAM for use by all higher-level functions, including virtual memory paging, memory mapped files and filesystem cach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perating System Modif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90640" y="1544760"/>
          <a:ext cx="7091280" cy="52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544760"/>
                    <a:ext cx="70912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RA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636560"/>
            <a:ext cx="5240520" cy="49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p 16 by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760320" indent="-266760">
              <a:lnSpc>
                <a:spcPts val="3498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. Flouris &amp; E. Marka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etwork Memory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cations of Network RAM in Datab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3498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847120" y="2214720"/>
            <a:ext cx="2785320" cy="3431160"/>
            <a:chOff x="5847120" y="221472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065640" y="221472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847120" y="533880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ransparent Network RAM Implementation Through OS Kernel Modification (II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Global memory managemen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ge fault in node P in G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in the global memory nodes of node Q, but P’s memory contains only local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ge is on dis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ulted page is a shared page in the local memory of another node 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080" y="151920"/>
            <a:ext cx="8991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oosting Performance with Subp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ubpages are transferred over the network much faster than whole pag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t with magnetic disk trans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ing subpages allow a large window for the overlap of computation with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ain disadvantages of remote memory pag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urity: can be resolved through the use of a regist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ility (fault-toleran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a reliable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simplest reliability poli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device such as the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nc write but, bandwidth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hieve high availability but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under fail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memory overhead (expens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plication – mirror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ing page replication to remote memory without using dis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-) use a lot of memory space, high network overhea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liability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e par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tensively used in RAIDs, based on XOR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memory requirement (1+1/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bandwidth &amp; computation overhe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wo servers have failure???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ity logg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uce the network overhead close to (1 + 1/S)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fficult problems from page overwrit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n Example of the Simple Parity Policy (Each server in this example can store 1000 pages)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547640"/>
          <a:ext cx="879156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47640"/>
                    <a:ext cx="879156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Parity Logging Example with Four Memory Servers and One Parity Server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41440" y="1501920"/>
          <a:ext cx="840240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501920"/>
                    <a:ext cx="840240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Global Memory Service (GMS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modified kernel solution for using Network RAM as a paging devic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reliability) Write data asynchronously to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prototype was implemented on the DEC OSF/1 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 real application workloads, show speedups of 1.5 to 3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d effectively to load chan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erally very efficient system for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G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2289240"/>
          <a:ext cx="879156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9240"/>
                    <a:ext cx="879156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Paging Prototyp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he Remote Memory Pag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the swap device driver approac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prototype was implemented on the DEC OSF/1 v3.2 O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onsist of a swap device driver on the client machine &amp; a user-level memory server program runs on the server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ffective remote paging syste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ed to modify the 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s and Cons of the Remote Memory Pag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680" y="2203560"/>
          <a:ext cx="899172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2203560"/>
                    <a:ext cx="899172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iscuss efficient distribution &amp; exploitation of main memory in a clus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 or Network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ggregate main memory of the workstation in a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memory vs. remote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significant amount of resources unused in the cluster at any given time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0-90% of workstation will be idle in the evening &amp; late afterno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3 of workstations are completely unused, even at the busiest times of d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-85% of the Network RAM in a cluster is id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sist of volatile memor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till can offer good reliabi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some form of redundancy, such as replication of data or par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er an excellent cost-effective alternative to magnetic disk sto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 the Network RAM as a filesystem cache, or directly as a faster-than-disk storage device for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Network Memory as a File Cach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 filesystem use a portion of the workstation’s memory as a filesystem cach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wo probl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cached copies waste local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ledge of the file’s exist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ral ways to improve the filesystem’s caching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the multiple cached cop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a global network memory filesystem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perate caching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twork Memory File Syst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Network RamDisk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’s I/O performanc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reliable network memory for directly storing temporary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easily implemented without modifying OS (Device Dri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accessed by any filesystem (NF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RamDi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lock device that unifies all the idle main memories in a NOW under a disk interf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haves like any normal disk, but implemented in main memory (RA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iff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ead of memory pages, send disk blocks to remote mem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sk blocks are much smaller than memory pages (512 or 1024 bytes) and on many OSs variable in size (from 512 bytes to 8 Kbytes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substitute the disk accesses with Network RAM a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ucing the latency of a trans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during its execution makes a number of disk accesses to read its data, makes some designated calculations on that data, writes its results to the disk and, at the end, comm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ity &amp; recover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ain areas where Network RAM can be used to boost a transactions-based system’s 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e initial phase of a transaction when read requests from the disk are perform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he use of global filesystem c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ed up synchronous write operations to reliable storag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at transaction commit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action-based systems make many small synchronous writes to stable stor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pplications of Network RAM in Databas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ansaction-Based System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eps performed in a transaction-based system that uses Network 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ransaction commit time, the data are synchronously written to remote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urrently, the same data are asynchronously sent to the dis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ata have been safely written to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the modified transaction-based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transaction commits after the second st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icate the data in the main memories of 2 works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se of Network RAM can deliver up to 2 orders of magnitude highe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mergence of high speed interconnection network added a new layer in memory hierarchy (Network RAM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oost the performance of applica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system &amp; data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nclus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results in significant performance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ating Network RAM in existing systems is eas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ice driver, loadable filesystem, user-level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nefits of Network RAM will probably increase with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p between memory and disk continue to be wid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uture Trend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ility &amp; Filesystem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echnology tre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networ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witched high performance local area network : ex) myri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 latency communication and messaging protocols : ex) U-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ency of Active Message on ATM (2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) vs. magnetic disk latency (10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performance workst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mories with low c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RAM even more attrac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I/O processor performance ga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formance improvement rate f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croprocessor:  50-10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k latency:  1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latency:  20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bandwidth:  45% per y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mory Hierarchy Figures for a Typical Workstation Cluster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1960" y="1957320"/>
          <a:ext cx="794556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1957320"/>
                    <a:ext cx="79455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720" y="5091120"/>
            <a:ext cx="88167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typical NOW with 100 workst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network of 20 </a:t>
            </a: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 latency &amp; 15 MB/s bandwidth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ssues in Using Network RA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network RAM consists essentially of locating &amp; managing effectively unused memory resources in a workstation clust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s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up-to-date inform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bout unused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oit memory in a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transparent w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o that local users will not notice any performance degrad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 the cooperation of several different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use of Network 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ote memory pa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: between the local RAM and the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file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to store temporary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providing Network RAM with a filesystem abstra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memory D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be used as a large DB cache and/or a fast non-volatile data buffer to store DB sensitiv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64-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it address sp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avy memory u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ication’s working sets have increased dramaticall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phisticated GUI, multimedia, AI, VLSI design tools, DB and transaction proce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RA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quivalent of remote memory pag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ache) – (main memory) – (network RAM) – (dis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ter than the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memory-intensive applications could benefit from Network 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 for mobile or portable computers, where storage space is lim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nging the Memory Hierarch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706400"/>
          <a:ext cx="87915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06400"/>
                    <a:ext cx="87915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mote Memory Pag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720" y="1561680"/>
            <a:ext cx="88167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ation Alternativ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in idea of remote memory pag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memory server processes on workstations that are either idle or lightly loaded and have sufficient amount of unused physica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 policy for the page manage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local pag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remote node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periodically asks the global resource mana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 the pages equally among the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server lo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gotiation from server to client &amp; mig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data to server’s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8:02Z</dcterms:modified>
  <cp:revision>780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