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9D85-EEED-4746-AE15-B099BC694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5840" y="4257720"/>
            <a:ext cx="88376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90E61-F433-469D-A9B8-F04D56A2F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5840" y="42577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4280" y="42577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3C00-027D-4FA7-89A7-7B8A87253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3840" y="14983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2200" y="14983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5840" y="42577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3840" y="42577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2200" y="42577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C9DB4-46CD-4D12-AA20-E5855262B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EF88E-D385-4A0D-B703-A077A4C627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78155-D56F-4C0E-83F0-D247E4D9C0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71ADB-3557-4C34-AAB7-827E05F717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1C6FA-3288-46D8-94A2-6515CE4255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04EAD-D903-450B-B687-4A5D93826D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4FAE5-FA7E-4A07-9BD1-9BD578A379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5840" y="42577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09914-844F-4F1B-8965-8E63790FB3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288D-AA85-4640-9647-B5B76D240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4280" y="42577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0C32A-C310-4CDB-A203-14D12DF98D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5840" y="4257720"/>
            <a:ext cx="88376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A4B92-1801-4503-B86F-B2583DADF6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5840" y="4257720"/>
            <a:ext cx="88376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703FF-9A37-4D1B-A232-C977C02401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5840" y="42577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4280" y="42577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1BA19-C811-4FDE-AF50-310982E4CD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93840" y="14983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82200" y="14983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5840" y="42577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93840" y="42577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82200" y="4257720"/>
            <a:ext cx="2845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CF2CE-287A-4218-8DFA-57A3B08A65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CF6A-88BA-49B2-9995-9FB7DE85C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B23A9-42FF-4969-A686-83ABF306C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A1668-8C8E-429C-BBF6-8FEAC6FCD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271E-B1F6-4A57-8E81-01D88927E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5840" y="42577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EA28-5E44-45A6-BB6D-1ADF16A4F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4280" y="42577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A36EE-B9ED-4BC8-92D8-94271F6FD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4280" y="1498320"/>
            <a:ext cx="4312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5840" y="4257720"/>
            <a:ext cx="88376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2872-5970-4B65-A758-75AE4E7157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4B58-555B-4335-8EF0-0DC98DABE63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297720" y="64832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1512-0457-481D-9084-07A8BE7C2F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34AA-3B8E-45AB-B3CB-F8123F8ACE4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anaged Objects: Job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job in the context of a RMS is any agglomeration of computational tasks usually solving a complex probl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29040" indent="-32904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job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y consist of a single program, of several interacting progra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y also utilize operating system command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re are four types of jobs in the context of R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tch Jobs: require no manual interaction as soon as start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eractive Jobs: require input during runtim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rallel Jobs: subtasks spread across several hosts in a clus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eck-pointing Jobs: periodically save status to the file system and can be aborted anytim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anaged Objects: Resourc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term resourc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ften called attribut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fers to the available memory, CPU time, and peripheral devi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 job is accompanied by its resource requirement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n RMS should ensure that resources are not oversubscribed by running job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s can be performed by comparing resource utilization information with the thresholds defined by the cluster administ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anaged Objects: Polici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To manage the computational resources of a cluster, categorizing classes of jobs in terms of queues is used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A RMS may offer more </a:t>
            </a:r>
            <a:r>
              <a:rPr b="0" lang="en-US" sz="3400" spc="-1" strike="noStrike" u="sng">
                <a:solidFill>
                  <a:srgbClr val="0000ff"/>
                </a:solidFill>
                <a:uFillTx/>
                <a:latin typeface="Comic Sans MS"/>
              </a:rPr>
              <a:t>abstract and advanced mechanisms</a:t>
            </a: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 to automate control of utilization of a compute server environment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Two types of polici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esource Utilization Polici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cheduling Polici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source Utilization Policie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hare based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source utilization entitlements with respect to the whole cluster are assigned to organization entities such as users, departments or projec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dvanced RMS allow the definition of resource shares by means of a hierarchical share tre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 attribute of share based utilization policies is that they attempt to establish the defined resource entitlements within a time window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unctional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ike share based policies, they also define resource entitleme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st usage is not taken into account in functional polici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resource entitlements maintained as fixed level of importan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source Utilization Policie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Deadline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ime critical applications which are required to finish before a given dead-line represent a proble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Manual override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n administrator may raise the resource entitlement of a certain job or of all jobs of a user, department, project and job class by a certain and well-interpretable quantit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heduling Polici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cheduling policies are meant to apply only to the process of dispatching job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A RMS may provide a variety of scheduling polici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irst-Come-First-Serve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elect-Least-Loade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elect-Fixed-Sequenc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mbinations abov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 Modern Architectural Approach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 structured design is vital for the quality of service that a RMS provid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central CODINE/GRD functionality is provided by three types of daemon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d_qmaster: master daem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d_schedd: scheduler is implemented in cod_sched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d_execd: execution daem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three daemons communicate over a communication system based upon TCP and provided by the CODINE/GRD communication daemon cod_commd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95040"/>
            <a:ext cx="8791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utomated Policy Based Resource Management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Requirements and Goals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ximally achieve the performance goals of the enterpri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is accomplished through resource management polic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aknesses in mediating the sharing of resour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pplications will rarely perform at the optimum performance because imbalanced load is the common situation in multiprocessing environm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portant/urgent work may be deferred or starved for resources while other work is initiated and process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authorized users may inadvertently dominate shared resources by simply submitting the largest amount of wor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user may grossly exceed her/his desired resource utilization level over 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ynamic reallocation of resources is a prerequisite to optimal workload manag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95040"/>
            <a:ext cx="8791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utomated Policy Based Resource Management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Quantifying Availability and Usage of Resources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RD performs resource tasking based upon the utilization and collective capabilities of an entire system of resour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order to avoid improper dispatching of job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RD continuously maintains alignment of resource utilization with policies, using a dynamic workload regulation schem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RD monitors and adjusts resource usage correlated to all processes of a job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80640"/>
            <a:ext cx="8791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utomated Policy Based Resource Management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olicy Models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hared base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s hierarchical allocation of resou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unctiona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s relative weighting among users, projects, departments, and job classes during exec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itiation deadlin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matically escalates a job’s resource entitlement over time as it approaches its dead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verrid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justs resource entitlements at the job, job class, user, project, or department lev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Job and Resource Management 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200" y="1498320"/>
            <a:ext cx="560880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By: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Fritz Ferst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Motivation and Historical System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mponents and Architecture of Job- and Resource Managemen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State-of-the-Art in RM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hallenges for the Present and the Futur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ummar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102720" y="2125800"/>
            <a:ext cx="2785320" cy="3431160"/>
            <a:chOff x="6102720" y="2125800"/>
            <a:chExt cx="2785320" cy="3431160"/>
          </a:xfrm>
        </p:grpSpPr>
        <p:pic>
          <p:nvPicPr>
            <p:cNvPr id="101" name="vol1pic_large" descr=""/>
            <p:cNvPicPr/>
            <p:nvPr/>
          </p:nvPicPr>
          <p:blipFill>
            <a:blip r:embed="rId1"/>
            <a:stretch/>
          </p:blipFill>
          <p:spPr>
            <a:xfrm>
              <a:off x="6321240" y="212580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102720" y="524988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RD Policy Integr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160" y="1909800"/>
          <a:ext cx="8991720" cy="40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0" y="1909800"/>
                    <a:ext cx="8991720" cy="40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80640"/>
            <a:ext cx="8791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utomated Policy Based Resource Management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Policy Enforcement 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GRD is implemented by a dynamic scheduling facilit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Multiple feed-back loops to adjust CPU shares of concurrently executing jobs toward dynamically changing requirement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tatic Scheduling Schem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280" y="1925640"/>
          <a:ext cx="8791560" cy="37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25640"/>
                    <a:ext cx="8791560" cy="37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RD’s Dynamic Scheduling Schem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3360" y="1498680"/>
          <a:ext cx="8991720" cy="503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60" y="1498680"/>
                    <a:ext cx="8991720" cy="50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52200"/>
            <a:ext cx="8791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State-of-the-Art of Job Support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rial Batch Job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ll RMS allow to submit batch job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ability to suspend and resume execution of batch jobs and to restart batch jobs after system crashes is a standard toda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nteractive Suppor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teractive job need to maintain a terminal connec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hen the interactive user suffers from background RMS jobs, “watchdog” program withdraw such machines from the RMS pool subsequentl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State-of-the-Art of Job Support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Parallel Support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Not all RMS provide parallel suppor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kind of support provided differs considerabl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upport of Arbitrary or Particular PP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ixed integrated parallel support (e.g.. Condor) providing an interfaces to PVM onl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DINE/GRD offers freely configurable start-and-stop procedures for each PPE to be supporte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State-of-the-Art of Job Support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Level of Control for Parallel Process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 simple way to provide an interface between a RMS and PPEs consists of submitting a start-up procedure/script for the run-time environment of PPEs to the RMS instead of a simple job scrip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 approach proposed by the psched initiativ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Is linking a RMS and PPEs to exchange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State-of-the-Art of Job Support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Mechanisms for dealing with the checkpointing of a job are provided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LSF and CODINE/GRD provide interfaces for so-called kernel level, application level and library based checkpointing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LoadLeveler and Condor provide checkpointing only for applications linked with operating specific libraries enabling the facilit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allenges for the Present and the Future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Open Interface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vanced APIs are need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elopers might want to use a RMS’s load balancing and load distribution capabilities to distribute computational subtasks across a network of compute ho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various reasons it is necessary to retrieve the following kind of information from inside RMS related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overall load situ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tatus of job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tatus of queu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oftware developer might want to pass information to a RMS system to support the schedul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pecially for the purpose of low-level integration of RMS with other software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 RMS’s graphical user’s and administrator’s interface should use API to configure RMS objects or to submit and monitor batch reque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MS administrators might wish to write special-purpose RMS commands in case the site’s users expect a very special behavi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allenges for the Present and the Future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Open Interfac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dvance RMS API must satisfy following reques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I must be easy to 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I need to be usable from any programming langu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I must hide RMS implementation details from the application develop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al RMS changes should not necessarily require software built upon the API to be chang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DINE/GRD API already meets these requiremen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a applicable for any client/server in CODINE/G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extensible without requiring recompilation for every API-based prog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s a SQL inspired interf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otivation and Historical Evolu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Need for Job Management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perating system offers job and resource management service for a single compu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batch job control on multi-user mainframes was performed outside the operating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in advantages are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for a structured resource utilization planning and control by the administ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fer the resources of a compute center to a user in an abstract, transparent, easy-to-understand and easy-to-use fash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a vendor independent user interf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first RMS of this type was NQS (Network Queuing Syste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allenges for the Present and the Future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esource Control and Mainframe-Like Batch Processing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MS controls the following resour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cyc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k sp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pheral devices such as printer, tape drives, et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operating system and hardware architectu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censes for the installed base and application softw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interconnect and its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allenges for the Present and the Future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Heterogeneous Parallel Environments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hared Memory Parallel Machin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or affinity is one of the common requirements that are demanded by users of shared memory parallel machi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dicated Distributed Memory Parallel Machin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roblem is that there are several types of machines available from several vendors showing strongly different characteristi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uster Based Distributed Memory Parallel Machin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ing clusters as distributed memory parallel machines brings in several com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ost important are difficulties in interfacing parallel programming environ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blems caused by the multi-user and multitasking nature of cluster compu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allenges for the Present and the Future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MS in a WAN Environment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ny large industrial and research organizations operate with several branches being separated by long distan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pplying a RMS to a WAN yields a number of problems related t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te file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oun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oday’s RMS offer good utilization of compute resources for a wide variety of application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y have proven their usefulness in production environments and still extend their application area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Need to evolve and integrate with other client/server softwar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DINE/GRD is well recognized as one of the leading RMS for clusters today and is well-equipped for the challenges of the futur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95040"/>
            <a:ext cx="8791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Job Management Systems on Workstation Clust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sing workstation clusters imposes specific requirements on job management syste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typical job management system usually offer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eterogeneous Suppor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tch Suppor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rallel Suppor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eractive Suppor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eck-pointing and Process Migr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oad Balanc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Job Run-Time Limi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UI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rimary application field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eckpointing and migrating job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rallel programs or I/O intensive job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80640"/>
            <a:ext cx="8791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ponents and Architecture of Job and Resource Management Systems (I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rerequisit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sic prerequisit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computers are interconnected by a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computers provide multi-user as well as multitasking capabil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omogeneous operating system architectures are not a restric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practice, the following situation occurs frequentl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ilar” operating systems run on all machi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X (in all variants) is very customary in the context of using R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crosoft’s Windows NT introduced the interest in the usage of relatively cheap PC hardware for clustered batch proce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80640"/>
            <a:ext cx="879156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ponents and Architecture of Job and Resource Management Systems (II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User interfac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MS at least provides a command line user interfa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ypical command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job submission command to register jobs for execution with the R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tatus display command to monitor progress or failure of a jo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job deletion command to cancel jobs no longer nee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me of the popular RMS also offer a GUI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640" y="66600"/>
            <a:ext cx="899172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ponents and Architecture of Job and Resource Management Systems (III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dministrative environmen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ecify machine characteristics for the hosts in the RMS poo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fine feasible job classes and the appropriate hosts for the job class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fine user access permiss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ecify resource limitations for users and job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ecify policies for the assignment of jobs according to load or other site specific preferenc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trol and ensure proper operation of the R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alyze accounting data to tune the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command line interface needs to be availabl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9480" indent="-3394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n administrative GUI is offered in some R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anaged Objects: Queu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The concept of queues refers to the standard computer science first-in-first-out queue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Mechanism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 job is assigned to a queue and processed on a host bound to the queu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f all queues are busy with a job when a new job is submitted, the new job waits until a queue becomes availabl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anaged Objects: Hos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5840" y="1498320"/>
            <a:ext cx="88376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erver nod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mpute services: consists of executing job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MS management services: covers all types of tasks to guarantee the operability of the RMS (network communication, scheduling, RMS configuration, etc.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ubmit/control host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o pass jobs to the RMS for execution and to control jobs respectivel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2-01-06T08:55:50Z</dcterms:modified>
  <cp:revision>780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