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95C2-5DF4-4B2B-AE8A-13BE9842F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EB98-31F0-4A6A-B12B-3CA2E00DC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4323-AE9D-49E8-9EB9-B1279F238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444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96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92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444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96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D098-BDBD-49DA-B4D8-4E4E057FA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6D3FF-9F35-4EF7-844D-48C8AE730D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42175-BDA0-4279-9D4A-D1F7AF1A66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C96E-FE3D-450E-AB9C-53CA731344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9324-A0CA-4B27-A82B-8B86BDE3D1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6EED-D8E9-49A8-8535-91B91980DD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87B1-816B-4A54-BCE4-49A5DE0FB9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7C42-E466-45CC-8684-2A414949EF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4871-BAE4-4D35-B485-78849CD12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007F-3D46-415A-816E-7F704A74EF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E8DF-5901-4927-B134-E298A77CC9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F01D-BA31-4EF7-B8C0-045459F654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9FF5-D9AC-4081-82BB-3C81D70E61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2444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960" y="154944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192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2444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960" y="4282560"/>
            <a:ext cx="283068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7D05-F28C-4572-B20D-A647D3C62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9AAD-594A-46FD-9E3E-31B811DE6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538D-2696-4071-BADC-FB7FB88D8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E94D-CBE1-4C9B-ABB6-AAA08061A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75FC-D10D-471B-8AD5-751621B2A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A424-E19D-43A0-801E-857E57FE2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428256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0D24-23D8-454B-9974-A811CE748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549440"/>
            <a:ext cx="42901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920" y="4282560"/>
            <a:ext cx="8791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282D-3146-43CB-B49C-6B91C2A2F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D025-098C-4751-973D-7B773E6548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B2DC-2F7B-4BE9-8E35-518B17E92B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1371-D350-4688-ADBF-4DDFD3EB611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36224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High Performance Cluster Computing</a:t>
            </a:r>
            <a:br>
              <a:rPr sz="3600"/>
            </a:br>
            <a:r>
              <a:rPr b="0" lang="en-GB" sz="3600" spc="-1" strike="noStrike">
                <a:solidFill>
                  <a:srgbClr val="000099"/>
                </a:solidFill>
                <a:latin typeface="Comic Sans MS"/>
              </a:rPr>
              <a:t>Architectures and Systems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01360" y="3428640"/>
            <a:ext cx="6604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ook Editor: Rajkumar Buyy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lides Prepared by: Hai J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3360" y="5757840"/>
          <a:ext cx="50976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3360" y="5757840"/>
                    <a:ext cx="50976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iccc" descr=""/>
          <p:cNvPicPr/>
          <p:nvPr/>
        </p:nvPicPr>
        <p:blipFill>
          <a:blip r:embed="rId3"/>
          <a:stretch/>
        </p:blipFill>
        <p:spPr>
          <a:xfrm>
            <a:off x="76320" y="49320"/>
            <a:ext cx="1523880" cy="1474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70760" y="529416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Internet and Cluster Comput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vol1pic_large" descr=""/>
          <p:cNvPicPr/>
          <p:nvPr/>
        </p:nvPicPr>
        <p:blipFill>
          <a:blip r:embed="rId4"/>
          <a:stretch/>
        </p:blipFill>
        <p:spPr>
          <a:xfrm>
            <a:off x="457200" y="3200400"/>
            <a:ext cx="109692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monash_logo" descr=""/>
          <p:cNvPicPr/>
          <p:nvPr/>
        </p:nvPicPr>
        <p:blipFill>
          <a:blip r:embed="rId5"/>
          <a:stretch/>
        </p:blipFill>
        <p:spPr>
          <a:xfrm>
            <a:off x="1600200" y="5797440"/>
            <a:ext cx="17254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ph_logo" descr=""/>
          <p:cNvPicPr/>
          <p:nvPr/>
        </p:nvPicPr>
        <p:blipFill>
          <a:blip r:embed="rId6"/>
          <a:stretch/>
        </p:blipFill>
        <p:spPr>
          <a:xfrm>
            <a:off x="264960" y="5627520"/>
            <a:ext cx="11430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iles can be accessed synchronized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y collective file oper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4 execution modes for parallel file I/O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roadcast-redu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the same data collectiv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read, all processes get a copy of the rea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write, data is written only o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tter-gath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processes access different parts of the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ared offs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cesses share a common file handle but access the file individu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depend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rocess has its own private hand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llective Communication in MPI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1" name="mpi26" descr=""/>
          <p:cNvPicPr/>
          <p:nvPr/>
        </p:nvPicPr>
        <p:blipFill>
          <a:blip r:embed="rId1"/>
          <a:srcRect l="8555" t="14660" r="6281" b="9096"/>
          <a:stretch/>
        </p:blipFill>
        <p:spPr>
          <a:xfrm>
            <a:off x="714240" y="1519200"/>
            <a:ext cx="761688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llective Communication in MPI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3" name="mpi27" descr=""/>
          <p:cNvPicPr/>
          <p:nvPr/>
        </p:nvPicPr>
        <p:blipFill>
          <a:blip r:embed="rId1"/>
          <a:srcRect l="8909" t="18137" r="13714" b="10415"/>
          <a:stretch/>
        </p:blipFill>
        <p:spPr>
          <a:xfrm>
            <a:off x="973080" y="1492200"/>
            <a:ext cx="7385040" cy="52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llective Computation in MPI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5" name="mpi31" descr=""/>
          <p:cNvPicPr/>
          <p:nvPr/>
        </p:nvPicPr>
        <p:blipFill>
          <a:blip r:embed="rId1"/>
          <a:srcRect l="2448" t="15118" r="7583" b="21335"/>
          <a:stretch/>
        </p:blipFill>
        <p:spPr>
          <a:xfrm>
            <a:off x="152280" y="1517760"/>
            <a:ext cx="8677440" cy="47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080" y="153360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ayers in the file architecture to allow flexibility for the programmer and the administration method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ree independent layers in the file architectur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oblem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efine problem specific data distribution among cooperating parallel processe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le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rovide a composed view of persistently stored data in the system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efine physical data distribution among the available disk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9680" y="1576440"/>
            <a:ext cx="8584920" cy="5221080"/>
            <a:chOff x="409680" y="1576440"/>
            <a:chExt cx="8584920" cy="5221080"/>
          </a:xfrm>
        </p:grpSpPr>
        <p:graphicFrame>
          <p:nvGraphicFramePr>
            <p:cNvPr id="130" name=""/>
            <p:cNvGraphicFramePr/>
            <p:nvPr/>
          </p:nvGraphicFramePr>
          <p:xfrm>
            <a:off x="409680" y="1576440"/>
            <a:ext cx="8584920" cy="522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9680" y="1576440"/>
                      <a:ext cx="8584920" cy="522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4597560" y="5348160"/>
              <a:ext cx="785520" cy="336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94200" y="3500280"/>
              <a:ext cx="677880" cy="336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17760" y="5348160"/>
              <a:ext cx="785880" cy="336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5800" y="3500280"/>
              <a:ext cx="690480" cy="336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25720" y="1944720"/>
              <a:ext cx="690840" cy="336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48360" y="1960560"/>
              <a:ext cx="677880" cy="336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File Abstraction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Mapping functions between these layer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Logical data independence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ist between the problem and the file lay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hysical data independenc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ist between the file and data lay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and Techniqu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Aim to accomplish following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ximize the use of available parallel I/O device to increase the bandwid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nimize the number of disk read and write operation per devi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inimize the number of I/O specific messages between processes to avoid unnecessary costly communic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ximize hit ratio (ratio between accessed data to requested data): data sieving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s and Techniqu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hree groups of methods in the parallel I/O execution framewor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 level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y to organize the main memory objects mapping the disk space to make disk accesses effici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ffering algorith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runtime libraries which are linked to the application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application program performs the data accesses itself without the need for dedicated I/O server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/O level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y to reorganize the disk access requests of the application programs to achieve better performa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independent I/O node servers which collect the requests and perform the ac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 anticipation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ticipate data access patterns which are drawn by hints from the code advance to its exec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 Phase Method (TPM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 method for reading/writing in-core arrays from/to disk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Base on the fact that I/O performance is better when process make an small number of large request instead of a large number of small on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cesses read data from dis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is redistributed among the processes by inter-process commun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ETP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ral I/O requests are combined into fewer larger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iminate multiple disk accesses for the same data (reducing contention for disk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processes have to participate in the collective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vantage: process can cooperate to perform certain optimizations when the same data is required by more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7915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I/O for Clusters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ethodologies and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549440"/>
            <a:ext cx="535968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hap 18 by E. Schikuta &amp; H.Stocking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troduc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Case for Cluster I/O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Parallel I/O Probl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File Abstrac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ethods and Techniqu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rchitectures and System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ViPIOS Approach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Conclusions and Future Trend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04520" y="2827440"/>
            <a:ext cx="2785320" cy="3431160"/>
            <a:chOff x="6104520" y="2827440"/>
            <a:chExt cx="2785320" cy="3431160"/>
          </a:xfrm>
        </p:grpSpPr>
        <p:pic>
          <p:nvPicPr>
            <p:cNvPr id="101" name="vol1pic_large" descr=""/>
            <p:cNvPicPr/>
            <p:nvPr/>
          </p:nvPicPr>
          <p:blipFill>
            <a:blip r:embed="rId1"/>
            <a:stretch/>
          </p:blipFill>
          <p:spPr>
            <a:xfrm>
              <a:off x="6323040" y="2827440"/>
              <a:ext cx="23670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104520" y="5951520"/>
              <a:ext cx="278532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Tahoma"/>
                </a:rPr>
                <a:t>http://www.buyya.com/clust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sk Directed I/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mprove the performance of reading/writing large, regular data structures such as a matrix distributed between memory and distributed disk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 traditional Unix-like parallel filesystems, individual processor make a request to the file system for each piece of data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many processes request the same data, a file is read multiple times and the data is transmitted to each processor independent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nterface that support collective I/O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 processes make a single joint request to the file syste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timizing data transf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igh-level request is sent to an I/O nod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age of less memory, less CPU and message passing overhe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ouble-bufferin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pecial remote-memory “get” and “put” message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ipeline the transfer of d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-Phase Data Administr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y to anticipate data access patterns of the application program as early as possible in the program execution cycle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Management of data is split into two distinct phases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paration ph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layout decisions, data distribution operation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cedes the execution of the application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s the information collected during the application program compilation proce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ysical data layout schemes are defin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ual server process for each application process and disks for the stored data are chos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storage areas are prepa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in memory buffers allo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ration ph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accesses and data prefetch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omplishes the I/O requests of the application processes and performs necessary reorganization of the data layo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-Phase Data Administr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4120" y="1803240"/>
          <a:ext cx="861696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803240"/>
                    <a:ext cx="861696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wo-Phase Data Administr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Hints are the general tool to support the I/O subsystem with information for the data administration proces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nts: data and problem-specific information provided by the application programmer or compi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administration h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information on the problem specific data distribution of the application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parallelization can be reached if the problem specific data distribution of the application processes matches the physical data layout on dis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prefetching h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ield better performance by pipelined parallelism and file alig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ration h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ow the configuration of the I/O subsystem according to the problem situation respective to the underlying hardware characteristics and their specific I/O nee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rchitectures and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o solve I/O bottleneck problem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Two different approaches</a:t>
            </a:r>
            <a:endParaRPr b="0" lang="en-US" sz="3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arallel file system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level 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 is enhanced by special features that deal directly with I/O at the level of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untime library for high performance languag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hance conventional high performance language such as Fortran or C/C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untime Modules and Librar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aim is to adapt graciously to the requirements of the problem characteristics specified in the application program and tools for the application programmer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executing application can hardly react dynamically to changing system situations or problem characteristic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data decisions were made during the programming and not during the execution phase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CPU of a node has to accomplish both the application processing and the I/O request of the application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e optimal performance is nearly impossible to reach by the usage of runtime librari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/O Runtime Librar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4800" y="1509840"/>
          <a:ext cx="809964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509840"/>
                    <a:ext cx="809964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PI-I/O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arallel I/O interface based on MPI message passing framework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upports a high-level interfac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files among multiple proce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fer global data structures between process memories and fi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timizations of physical file layout on storage dev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hree access function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itioning is accomplished by explicit offsets, individual file pointers, and shared file poin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ynchronization and asynchronization (blocking, nonblocking, respectively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ordination by collective oper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Typical implementation of MPI-IO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MPIO: Portable MPI I/O by NASA Ames Research Cen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MIO: as MPI-IO extension of MPICH by Argonne National Lab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PI-IO/PIOFS: by IBM Watson Research Cen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PSS implementation: by Lawrence Livermore National Lab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iling a File Using a Filetyp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952640"/>
          <a:ext cx="879156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52640"/>
                    <a:ext cx="879156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File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arallel disk access via a parallel filesystem interfac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Balance the parallel processing capabilities of their processor architectures with the I/O capabilities of a parallel I/O subsystem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mpared to runtime libraries, parallel filesystems have the advantage that they execute independently from their applica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ecute independently from their appl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/O servers are directly suppo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c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poin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rawback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 support the capabilities of the available high performance languages direct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allow the programmer to coordinate the disk access according to the distribution profile of the problem specif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icroprocessors increase their performance by 50% to 100% per year, but disk hardly their performan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problem is more exaggerated in processing huge data s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rt parallel I/O algorithms are required to access the data on disk effici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n high performance computing the application shifted from being CPU-bound to be I/O bound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erformance cannot be scaled up by increasing the number of CPUs any more, but by increasing the bandwidth of the I/O sub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File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73120" y="1525680"/>
          <a:ext cx="6075360" cy="52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525680"/>
                    <a:ext cx="607536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arallel Database Syste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Link to the spread of the relational model as the common user interface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lational queries are well suited for parallel execu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wo different types of parallelism can be distinguished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-operator parallel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allelism from independent, but simultaneous, execution of different operators of the query execution tree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ra-operator parallel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Partitioning input data stream of one operator to a number of parallel query processe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Each process execute the same operation on a different part of dat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ViPIOS Approach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y the University of Vienna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 full-fledged parallel I/O runtime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vailable both as runtime library and as I/O server configuration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can serve as I/O module for high performance languages and supports the standardized MPI-IO interfa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t was developed by focusing on workstation cluster syst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Parallel I/O for High Performance Langu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tatic fit property: adapt disk access profile of programmer or compil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ynamic fit property: adaptability of the I/O runtime subsystem to applications or environment’s characteristic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Principle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Gather all available information on the application process both during the compilation process and runtime execution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ovide the optimal fitting data access profile for the application and may then react to the execution behavior dynamicall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low optimal performance by aiming for maximum I/O bandwidth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ViPIOS is an I/O runtime system which provides efficient access to persistent files 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y optimizing the data layout on the disks and allowing parallel read/write operation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sign Principle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ViPIOS is supporting I/O module for high performance languag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sign principl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architecture is highly distributed and decentraliz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fficienc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itable data organization to provide a transparent view of the stored data on disk to the outside wor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ze data layout on disk respective to the static application problem description and dynamic runtime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is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various forms of efficient and parallel data access m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basic idea to solve the I/O bottleneck in ViPIOS is decoupling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sk access operations are de-coupled from the application and performed by an independent I/O subsystem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uild upon a set of cooperating server process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rver processes run independently on all or a number of dedicated processing nodes on the underlying MPP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e-to-many relationship between the application and the server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iPIOS System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666880" y="1487520"/>
          <a:ext cx="395316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487520"/>
                    <a:ext cx="395316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Locality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 is design principle to achieve high data access performanc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data requested by an application process should be read/written from to the best-suited disk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gical Data Local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the best suited ViPIOS server for an application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hysical Data Locality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disk set providing the best data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ViPIOS Server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face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the connection to the outside wor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nel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sible for all server specific tas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essage mana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responsible for communication externally and intern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Fragmen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kes decisions on the effective data layout, administration, and ViPIOS 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irectory mana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ores the meta information of th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Memory mana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responsible for prefetching, caching and buffer manag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isk manager lay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the access to the available and supported disk sub-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iPIOS Server Architectur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14400" y="1512720"/>
          <a:ext cx="5340600" cy="52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4400" y="1512720"/>
                    <a:ext cx="5340600" cy="52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troduc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Cluster-based parallel I/O system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9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Comic Sans MS"/>
              </a:rPr>
              <a:t>ViPIOS</a:t>
            </a:r>
            <a:endParaRPr b="0" lang="en-US" sz="3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ent-server based tool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ing capabilities found in parallel I/O runtime libraries and parallel file 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ystem Architecture (IV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stem Mod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untime librar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all disk I/O requests of the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is not running on independent servers, but as part of the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pendent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is running as an independent module in parallel to the application, but is started together with the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dependent syst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hieve highest possible I/O bandwidth by exploiting all available data administration possib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is running similar to a parallel filesystem or a database server waiting to connect via ViPIOS interf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ViPIOS System Mod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520" y="1542960"/>
          <a:ext cx="9123480" cy="484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542960"/>
                    <a:ext cx="9123480" cy="48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ata Administration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e data administration in ViPIOS is guided by two principl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wo phase data administ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ata access mod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ata access modes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cal data access (buddy acces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uddy server can resolve the applications requests on its own dis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emote data access (foe access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uddy server cannot resolve the request on its disks and must broadcast the request to the other ViPIOS servers to find the owner of th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uddy” and “Foe” Server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825560" y="1531800"/>
          <a:ext cx="5389560" cy="52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560" y="1531800"/>
                    <a:ext cx="5389560" cy="52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cal versus Remote Data Acces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6600" y="1593720"/>
          <a:ext cx="899172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1593720"/>
                    <a:ext cx="899172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ata Administration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isk access mode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quential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 single application process to send a sequential read/write operation, which is processed by a single ViPIOS server in sequential man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arallel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PIOS processes the sequential process in parallel by splitting the operation into independent sub-operations and distributing them onto available ViPIOS server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ordinated mo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read/write operation is requested by a number of application processes collectiv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-operations are processed by ViPIOS servers sequenti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sk Access Mod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560" y="1812960"/>
          <a:ext cx="8991360" cy="40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1812960"/>
                    <a:ext cx="899136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ference Boo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211" name="paralelio" descr=""/>
          <p:cNvPicPr/>
          <p:nvPr/>
        </p:nvPicPr>
        <p:blipFill>
          <a:blip r:embed="rId1"/>
          <a:stretch/>
        </p:blipFill>
        <p:spPr>
          <a:xfrm>
            <a:off x="4554360" y="1741320"/>
            <a:ext cx="3616560" cy="4692960"/>
          </a:xfrm>
          <a:prstGeom prst="rect">
            <a:avLst/>
          </a:prstGeom>
          <a:ln w="0">
            <a:noFill/>
          </a:ln>
        </p:spPr>
      </p:pic>
      <p:pic>
        <p:nvPicPr>
          <p:cNvPr id="212" name="MYBOOK" descr=""/>
          <p:cNvPicPr/>
          <p:nvPr/>
        </p:nvPicPr>
        <p:blipFill>
          <a:blip r:embed="rId2"/>
          <a:stretch/>
        </p:blipFill>
        <p:spPr>
          <a:xfrm>
            <a:off x="546120" y="1711440"/>
            <a:ext cx="349416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ase for Cluster I/O Systems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An architectural framework similar to a cluster of computers can be found in state-of-the-art MPP systems 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wo different types of I/O systems for MPP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ternal attached I/O subsyste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ed with the MPP by a separate interconnection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dicat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administration and application development are relatively sim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ternal I/O no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I/O node is a conventional processing node with a disk attach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the software distinguishes between I/O and computing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/O Architecture Topologi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1852560"/>
          <a:ext cx="879156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52560"/>
                    <a:ext cx="879156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Case for Cluster I/O Systems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MPP I/O framework is similar to cluster I/O framework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minent drawback is the latency of the interconnection network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putational-bound appl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overcome by applying new bus technologies (Giganet, Myrinet) or by using multiple I/O buses in parall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/O based appl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The already developed methods and paradigms to overcome this I/O bottleneck on MPP systems can similarly be used on cluster system.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usters are a suitable platform for I/O based applica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arallel I/O Problem (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IO needs of typical supercomputing applications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cratch fi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heckpoint/restar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ccessing out-of-core structu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Regular Problem</a:t>
            </a:r>
            <a:endParaRPr b="0" lang="en-US" sz="26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approach is supported by the well-known SPMD mod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thread control-parallel exec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lobal namespa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se synchron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s model design a sequential program and transfer it to parallel execu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arallel I/O Problem (II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549440"/>
            <a:ext cx="879156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Irregular Problem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access patterns cannot be predicted until run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different kinds to be optimiz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regular control struct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ditional statements making it inefficient to run on synchronous programming mode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regular data structu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balanced trees or graph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rregular communication patter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se lead to non-determini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Out of Core (OOC) Computation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mary data structure do not wholly fit into main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ation is carried out in several ph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is brought into main mem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re back onto secondary stor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 Jin</dc:creator>
  <dc:description/>
  <dc:language>en-US</dc:language>
  <cp:lastModifiedBy>Rajkumar Buyya</cp:lastModifiedBy>
  <dcterms:modified xsi:type="dcterms:W3CDTF">2001-12-31T06:53:58Z</dcterms:modified>
  <cp:revision>812</cp:revision>
  <dc:subject/>
  <dc:title>HPCC - Chapter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